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wmf" ContentType="image/x-wmf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16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2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9.jpeg" ContentType="image/jpeg"/>
  <Override PartName="/ppt/media/image35.jpeg" ContentType="image/jpeg"/>
  <Override PartName="/ppt/media/image32.jpeg" ContentType="image/jpeg"/>
  <Override PartName="/ppt/media/image33.jpeg" ContentType="image/jpeg"/>
  <Override PartName="/ppt/media/image13.wmf" ContentType="image/x-wmf"/>
  <Override PartName="/ppt/media/image2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30.jpeg" ContentType="image/jpeg"/>
  <Override PartName="/ppt/media/image39.png" ContentType="image/png"/>
  <Override PartName="/ppt/media/image42.wmf" ContentType="image/x-wmf"/>
  <Override PartName="/ppt/media/image43.png" ContentType="image/png"/>
  <Override PartName="/ppt/media/image12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8.png" ContentType="image/png"/>
  <Override PartName="/ppt/media/image28.gif" ContentType="image/gif"/>
  <Override PartName="/ppt/media/image9.wmf" ContentType="image/x-wmf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A20BB5-8E70-412E-BFF1-E4E5E4DF0D0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488897-06E4-4640-9D80-E01D96B81C5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028EB0-0929-47D7-A39B-9BF4F7F49CC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C3BC0A-0D63-457B-812F-8F32228D07A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B4DF02-6283-4707-AFCE-3DA8F86F5BC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559342-78C5-4B8F-92FC-25E58EBDC99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8C389A-CB0C-4FE1-AAAF-8954B8AFD19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D56840-B0BE-4269-9156-41394F7C893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FA48BC-3920-48B0-8635-72DA7262E8C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8641E9-5160-418F-B0CE-2369D802FFA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D45A41-BB9F-4D03-8E78-AB33ADA5C287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4FD363-96C8-47A9-BE0D-EAB95F8397E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5F7410-BF16-4822-BF2C-AFA6C89485C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1A12BC-AB66-46D6-91FD-C1258D9ACC6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E714C6-1C95-4816-975B-15BC769463F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B87136-3510-466E-AAE5-4743CE015DA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42CF7F-AC29-44E3-ADA7-A6F3F7F103C5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B71C12-BCC0-4906-B1B0-C997AABECD6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69AC57-1F47-4138-92A4-F58B5842BB3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19BA4-1516-4BB7-A3B1-C6018F7BD65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CE2E35-8AB9-4904-9412-CB741F6B7C6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B0C363-E0C3-45FF-851A-B2F5B7B144A7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F870E5-38B3-458C-A39E-8822AE49177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74A352-456F-413E-9C7B-68A82B49A34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94D7F4-0D74-47DF-A18D-539C2844123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27F65B-0D72-468C-8577-59E6B5F16FF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976D71-A74A-4F84-800C-79B61E6FC12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FEBBE5-37C5-43F3-A8CA-50257D8F3AB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398FF1-194F-4C45-98D9-40298F8CE3A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318A2B-2A0F-48C7-8AA7-78C96C64466A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3FF9B5-0430-402E-93EC-A7B5CB42C16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AC5-1B2B-4151-BE1F-79991526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E6E-7045-4A46-A263-88B36048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2D0-FAED-43A9-B9C2-980F91FC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153-9D9A-4334-BDAF-AA29CFFA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202-CEB0-42FA-8A7D-CF914EA4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CFE-E610-4431-A036-4FF436A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AA6-77F0-40B9-AAF1-113AD684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5A0-A672-4C6D-9A97-F14B86A7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C4F-D274-42E1-BE8B-0F7665FE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B06-503B-4D73-8ACF-D0621F9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30E-35B7-436E-9815-6902A2C4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0A6-7137-4E4E-BCEB-5228894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CBBCDB-31B3-49A1-92D6-6CE6058DE040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82760" y="115200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3 (Lic. en Biol. Molec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METABOLISMO. Vías metabólicas. Catabolismo, anabolismo y vías anfibólicas. Recambio metabólico. Regulación del metabolismo. Carbohidratos: Digestión y absorción. Ingreso de glucosa a las células. Familia de transportadores METABOLISMO DE CARBOHIDRATO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GLICOLISIS. Vía de Embden-Meyerhof. Fases de la glucólisis. Enzimas y cofactores que participan. Regulación enzimática. Rendimiento energético. Distintos tipos de fermentaciones. Utilización de fructosa y galact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ng. En Alim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METABOLISMO: Catabolismo y anabolismo. Vías metabólicas: secuencias lineales y ramificadas. Regulación de las vías metabólicas Catabolismo de los hidratos de carbono. Digestión y absorción. Sistemas de transporte. Importancia de los carbohidratos en la alimentació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GLICOLISIS. Vía de Embden-Meyerhof. Fases de la glucólisis. Regulación. Fermentación alcohólica, láctica y acética. Balance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55480" y="27936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ic. en Biol. Molec. e Ing. en Al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149" name="Line 2"/>
          <p:cNvSpPr/>
          <p:nvPr/>
        </p:nvSpPr>
        <p:spPr>
          <a:xfrm>
            <a:off x="2843280" y="1989000"/>
            <a:ext cx="576360" cy="29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2843280" y="1792440"/>
            <a:ext cx="5843520" cy="368280"/>
            <a:chOff x="2843280" y="1792440"/>
            <a:chExt cx="5843520" cy="368280"/>
          </a:xfrm>
        </p:grpSpPr>
        <p:sp>
          <p:nvSpPr>
            <p:cNvPr id="151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5"/>
            <p:cNvSpPr/>
            <p:nvPr/>
          </p:nvSpPr>
          <p:spPr>
            <a:xfrm>
              <a:off x="5607360" y="1792440"/>
              <a:ext cx="30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Arial"/>
                </a:rPr>
                <a:t>Ptialina o </a:t>
              </a:r>
              <a:r>
                <a:rPr b="1" i="1" lang="el-GR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α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-a</a:t>
              </a:r>
              <a:r>
                <a:rPr b="1" i="1" lang="es-ES" sz="1800" spc="-1" strike="noStrike">
                  <a:solidFill>
                    <a:srgbClr val="3333cc"/>
                  </a:solidFill>
                  <a:latin typeface="Arial"/>
                </a:rPr>
                <a:t>milasa saliv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6"/>
          <p:cNvGrpSpPr/>
          <p:nvPr/>
        </p:nvGrpSpPr>
        <p:grpSpPr>
          <a:xfrm>
            <a:off x="3132000" y="4340160"/>
            <a:ext cx="5331240" cy="1465560"/>
            <a:chOff x="3132000" y="4340160"/>
            <a:chExt cx="5331240" cy="1465560"/>
          </a:xfrm>
        </p:grpSpPr>
        <p:sp>
          <p:nvSpPr>
            <p:cNvPr id="154" name="Line 7"/>
            <p:cNvSpPr/>
            <p:nvPr/>
          </p:nvSpPr>
          <p:spPr>
            <a:xfrm>
              <a:off x="3132000" y="4508640"/>
              <a:ext cx="255384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8"/>
            <p:cNvSpPr/>
            <p:nvPr/>
          </p:nvSpPr>
          <p:spPr>
            <a:xfrm>
              <a:off x="5755680" y="4340160"/>
              <a:ext cx="2707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l-GR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α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-a</a:t>
              </a:r>
              <a:r>
                <a:rPr b="1" i="1" lang="es-ES" sz="1800" spc="-1" strike="noStrike">
                  <a:solidFill>
                    <a:srgbClr val="3333cc"/>
                  </a:solidFill>
                  <a:latin typeface="Arial"/>
                </a:rPr>
                <a:t>milasa pancre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l-GR" sz="1800" spc="-1" strike="noStrike">
                  <a:solidFill>
                    <a:srgbClr val="00cc99"/>
                  </a:solidFill>
                  <a:latin typeface="Arial"/>
                  <a:ea typeface="Arial"/>
                </a:rPr>
                <a:t>α</a:t>
              </a:r>
              <a:r>
                <a:rPr b="1" i="1" lang="en-US" sz="1800" spc="-1" strike="noStrike">
                  <a:solidFill>
                    <a:srgbClr val="00cc99"/>
                  </a:solidFill>
                  <a:latin typeface="Arial"/>
                  <a:ea typeface="Arial"/>
                </a:rPr>
                <a:t>-dextri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00cc99"/>
                  </a:solidFill>
                  <a:latin typeface="Arial"/>
                  <a:ea typeface="Arial"/>
                </a:rPr>
                <a:t> </a:t>
              </a:r>
              <a:r>
                <a:rPr b="1" i="1" lang="el-GR" sz="1800" spc="-1" strike="noStrike">
                  <a:solidFill>
                    <a:srgbClr val="ff9900"/>
                  </a:solidFill>
                  <a:latin typeface="Arial"/>
                  <a:ea typeface="Arial"/>
                </a:rPr>
                <a:t>α</a:t>
              </a:r>
              <a:r>
                <a:rPr b="1" i="1" lang="en-US" sz="1800" spc="-1" strike="noStrike">
                  <a:solidFill>
                    <a:srgbClr val="ff9900"/>
                  </a:solidFill>
                  <a:latin typeface="Arial"/>
                  <a:ea typeface="Arial"/>
                </a:rPr>
                <a:t>-glucosid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sacarasa-isomal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lac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9"/>
          <p:cNvGrpSpPr/>
          <p:nvPr/>
        </p:nvGrpSpPr>
        <p:grpSpPr>
          <a:xfrm>
            <a:off x="3564000" y="3521160"/>
            <a:ext cx="5165640" cy="368280"/>
            <a:chOff x="3564000" y="3521160"/>
            <a:chExt cx="5165640" cy="368280"/>
          </a:xfrm>
        </p:grpSpPr>
        <p:sp>
          <p:nvSpPr>
            <p:cNvPr id="157" name="Line 10"/>
            <p:cNvSpPr/>
            <p:nvPr/>
          </p:nvSpPr>
          <p:spPr>
            <a:xfrm>
              <a:off x="3564000" y="3789360"/>
              <a:ext cx="21556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5709960" y="3521160"/>
              <a:ext cx="301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ido, inactiva la enzi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1834920" y="25236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y absorción de carbohidr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"/>
          <p:cNvGrpSpPr/>
          <p:nvPr/>
        </p:nvGrpSpPr>
        <p:grpSpPr>
          <a:xfrm>
            <a:off x="2297880" y="758880"/>
            <a:ext cx="981000" cy="368280"/>
            <a:chOff x="2297880" y="758880"/>
            <a:chExt cx="981000" cy="368280"/>
          </a:xfrm>
        </p:grpSpPr>
        <p:sp>
          <p:nvSpPr>
            <p:cNvPr id="161" name="Text Box 3"/>
            <p:cNvSpPr/>
            <p:nvPr/>
          </p:nvSpPr>
          <p:spPr>
            <a:xfrm>
              <a:off x="22978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4"/>
          <p:cNvGrpSpPr/>
          <p:nvPr/>
        </p:nvGrpSpPr>
        <p:grpSpPr>
          <a:xfrm>
            <a:off x="2021040" y="3430440"/>
            <a:ext cx="2762280" cy="368280"/>
            <a:chOff x="2021040" y="3430440"/>
            <a:chExt cx="2762280" cy="368280"/>
          </a:xfrm>
        </p:grpSpPr>
        <p:sp>
          <p:nvSpPr>
            <p:cNvPr id="163" name="Text Box 6"/>
            <p:cNvSpPr/>
            <p:nvPr/>
          </p:nvSpPr>
          <p:spPr>
            <a:xfrm>
              <a:off x="2021040" y="3430440"/>
              <a:ext cx="276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660066"/>
                  </a:solidFill>
                  <a:latin typeface="Times New Roman"/>
                </a:rPr>
                <a:t>Amilopectina o 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7202160" y="3213000"/>
            <a:ext cx="1241280" cy="368280"/>
            <a:chOff x="7202160" y="3213000"/>
            <a:chExt cx="1241280" cy="368280"/>
          </a:xfrm>
        </p:grpSpPr>
        <p:sp>
          <p:nvSpPr>
            <p:cNvPr id="165" name="Text Box 9"/>
            <p:cNvSpPr/>
            <p:nvPr/>
          </p:nvSpPr>
          <p:spPr>
            <a:xfrm>
              <a:off x="7202160" y="321300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Times New Roman"/>
                </a:rPr>
                <a:t>n Mal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Text Box 10"/>
          <p:cNvSpPr/>
          <p:nvPr/>
        </p:nvSpPr>
        <p:spPr>
          <a:xfrm>
            <a:off x="7019640" y="43657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n Maltotri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7019280" y="47242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n Oligosacári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(dextrina l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m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975320" y="16344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gestión del Almidón y/o del Glucó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4788000" y="2565360"/>
            <a:ext cx="2158560" cy="2085480"/>
            <a:chOff x="4788000" y="2565360"/>
            <a:chExt cx="2158560" cy="2085480"/>
          </a:xfrm>
        </p:grpSpPr>
        <p:grpSp>
          <p:nvGrpSpPr>
            <p:cNvPr id="170" name="Group 14"/>
            <p:cNvGrpSpPr/>
            <p:nvPr/>
          </p:nvGrpSpPr>
          <p:grpSpPr>
            <a:xfrm>
              <a:off x="4788000" y="2565360"/>
              <a:ext cx="2155680" cy="2085480"/>
              <a:chOff x="4788000" y="2565360"/>
              <a:chExt cx="2155680" cy="2085480"/>
            </a:xfrm>
          </p:grpSpPr>
          <p:grpSp>
            <p:nvGrpSpPr>
              <p:cNvPr id="171" name="Group 15"/>
              <p:cNvGrpSpPr/>
              <p:nvPr/>
            </p:nvGrpSpPr>
            <p:grpSpPr>
              <a:xfrm>
                <a:off x="4788000" y="2565360"/>
                <a:ext cx="2012400" cy="2085480"/>
                <a:chOff x="4788000" y="2565360"/>
                <a:chExt cx="2012400" cy="208548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5220720" y="2565360"/>
                  <a:ext cx="717480" cy="1077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7"/>
                <p:cNvSpPr/>
                <p:nvPr/>
              </p:nvSpPr>
              <p:spPr>
                <a:xfrm flipV="1">
                  <a:off x="4788000" y="3641400"/>
                  <a:ext cx="1150200" cy="1009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8"/>
                <p:cNvSpPr/>
                <p:nvPr/>
              </p:nvSpPr>
              <p:spPr>
                <a:xfrm>
                  <a:off x="5938200" y="3643200"/>
                  <a:ext cx="86220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Text Box 19"/>
              <p:cNvSpPr/>
              <p:nvPr/>
            </p:nvSpPr>
            <p:spPr>
              <a:xfrm>
                <a:off x="5888160" y="2997360"/>
                <a:ext cx="105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saliv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0"/>
            <p:cNvGrpSpPr/>
            <p:nvPr/>
          </p:nvGrpSpPr>
          <p:grpSpPr>
            <a:xfrm>
              <a:off x="5643000" y="3645000"/>
              <a:ext cx="1303560" cy="1004760"/>
              <a:chOff x="5643000" y="3645000"/>
              <a:chExt cx="1303560" cy="1004760"/>
            </a:xfrm>
          </p:grpSpPr>
          <p:sp>
            <p:nvSpPr>
              <p:cNvPr id="177" name="AutoShape 21"/>
              <p:cNvSpPr/>
              <p:nvPr/>
            </p:nvSpPr>
            <p:spPr>
              <a:xfrm flipH="1">
                <a:off x="6084000" y="3645000"/>
                <a:ext cx="862560" cy="10047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Text Box 22"/>
              <p:cNvSpPr/>
              <p:nvPr/>
            </p:nvSpPr>
            <p:spPr>
              <a:xfrm>
                <a:off x="5643000" y="414108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Line 24"/>
          <p:cNvSpPr/>
          <p:nvPr/>
        </p:nvSpPr>
        <p:spPr>
          <a:xfrm>
            <a:off x="1476360" y="1268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4067280" y="11970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9"/>
          <p:cNvSpPr/>
          <p:nvPr/>
        </p:nvSpPr>
        <p:spPr>
          <a:xfrm>
            <a:off x="1332000" y="3860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2124000" y="494172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4643280" y="2565360"/>
            <a:ext cx="2386440" cy="2085480"/>
            <a:chOff x="4643280" y="2565360"/>
            <a:chExt cx="2386440" cy="2085480"/>
          </a:xfrm>
        </p:grpSpPr>
        <p:grpSp>
          <p:nvGrpSpPr>
            <p:cNvPr id="184" name="Group 2"/>
            <p:cNvGrpSpPr/>
            <p:nvPr/>
          </p:nvGrpSpPr>
          <p:grpSpPr>
            <a:xfrm>
              <a:off x="4643280" y="2565360"/>
              <a:ext cx="2011320" cy="2085480"/>
              <a:chOff x="4643280" y="2565360"/>
              <a:chExt cx="2011320" cy="2085480"/>
            </a:xfrm>
          </p:grpSpPr>
          <p:sp>
            <p:nvSpPr>
              <p:cNvPr id="185" name="Line 3"/>
              <p:cNvSpPr/>
              <p:nvPr/>
            </p:nvSpPr>
            <p:spPr>
              <a:xfrm>
                <a:off x="5075640" y="2565360"/>
                <a:ext cx="717480" cy="107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4"/>
              <p:cNvSpPr/>
              <p:nvPr/>
            </p:nvSpPr>
            <p:spPr>
              <a:xfrm flipV="1">
                <a:off x="4643280" y="3641400"/>
                <a:ext cx="1149840" cy="1009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5793120" y="3643200"/>
                <a:ext cx="8614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Text Box 6"/>
            <p:cNvSpPr/>
            <p:nvPr/>
          </p:nvSpPr>
          <p:spPr>
            <a:xfrm>
              <a:off x="5581080" y="270828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Amil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pancre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6886440" y="3213000"/>
            <a:ext cx="1875240" cy="1728000"/>
            <a:chOff x="6886440" y="3213000"/>
            <a:chExt cx="1875240" cy="1728000"/>
          </a:xfrm>
        </p:grpSpPr>
        <p:graphicFrame>
          <p:nvGraphicFramePr>
            <p:cNvPr id="190" name="Object 8"/>
            <p:cNvGraphicFramePr/>
            <p:nvPr/>
          </p:nvGraphicFramePr>
          <p:xfrm>
            <a:off x="6886440" y="3213000"/>
            <a:ext cx="1871640" cy="894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86440" y="3213000"/>
                      <a:ext cx="1871640" cy="8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Text Box 9"/>
            <p:cNvSpPr/>
            <p:nvPr/>
          </p:nvSpPr>
          <p:spPr>
            <a:xfrm>
              <a:off x="7317000" y="403956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7206480" y="454212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11"/>
          <p:cNvGrpSpPr/>
          <p:nvPr/>
        </p:nvGrpSpPr>
        <p:grpSpPr>
          <a:xfrm>
            <a:off x="0" y="1052640"/>
            <a:ext cx="5829120" cy="5034960"/>
            <a:chOff x="0" y="1052640"/>
            <a:chExt cx="5829120" cy="5034960"/>
          </a:xfrm>
        </p:grpSpPr>
        <p:graphicFrame>
          <p:nvGraphicFramePr>
            <p:cNvPr id="195" name="Object 12"/>
            <p:cNvGraphicFramePr/>
            <p:nvPr/>
          </p:nvGraphicFramePr>
          <p:xfrm>
            <a:off x="0" y="1052640"/>
            <a:ext cx="5578560" cy="16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052640"/>
                      <a:ext cx="5578560" cy="169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13"/>
            <p:cNvGraphicFramePr/>
            <p:nvPr/>
          </p:nvGraphicFramePr>
          <p:xfrm>
            <a:off x="34560" y="3859560"/>
            <a:ext cx="5794560" cy="22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8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60" y="3859560"/>
                      <a:ext cx="5794560" cy="22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Text Box 14"/>
            <p:cNvSpPr/>
            <p:nvPr/>
          </p:nvSpPr>
          <p:spPr>
            <a:xfrm>
              <a:off x="606960" y="314064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Oligosacárid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Text Box 15"/>
          <p:cNvSpPr/>
          <p:nvPr/>
        </p:nvSpPr>
        <p:spPr>
          <a:xfrm>
            <a:off x="2900520" y="16344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gestión del Almidón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1403280" y="1052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4067280" y="1125360"/>
            <a:ext cx="0" cy="72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>
            <a:off x="2050920" y="35733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395280" y="46530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619280" y="4724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5488920" y="388152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l-GR" sz="1800" spc="-1" strike="noStrike">
                <a:solidFill>
                  <a:srgbClr val="00cc99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  <a:ea typeface="Arial"/>
              </a:rPr>
              <a:t>-dextrin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l-GR" sz="1800" spc="-1" strike="noStrike">
                <a:solidFill>
                  <a:srgbClr val="00cc99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  <a:ea typeface="Arial"/>
              </a:rPr>
              <a:t>-glucosid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>
            <a:off x="3419640" y="4508640"/>
            <a:ext cx="720720" cy="360360"/>
          </a:xfrm>
          <a:prstGeom prst="line">
            <a:avLst/>
          </a:prstGeom>
          <a:ln w="442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633840" y="260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acarida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1114560" y="835200"/>
            <a:ext cx="6408360" cy="1943280"/>
            <a:chOff x="1114560" y="835200"/>
            <a:chExt cx="6408360" cy="1943280"/>
          </a:xfrm>
        </p:grpSpPr>
        <p:grpSp>
          <p:nvGrpSpPr>
            <p:cNvPr id="210" name="Group 3"/>
            <p:cNvGrpSpPr/>
            <p:nvPr/>
          </p:nvGrpSpPr>
          <p:grpSpPr>
            <a:xfrm>
              <a:off x="1114560" y="835200"/>
              <a:ext cx="6408360" cy="1657800"/>
              <a:chOff x="1114560" y="835200"/>
              <a:chExt cx="6408360" cy="1657800"/>
            </a:xfrm>
          </p:grpSpPr>
          <p:graphicFrame>
            <p:nvGraphicFramePr>
              <p:cNvPr id="211" name="Object 4"/>
              <p:cNvGraphicFramePr/>
              <p:nvPr/>
            </p:nvGraphicFramePr>
            <p:xfrm>
              <a:off x="1114560" y="893520"/>
              <a:ext cx="2736000" cy="1308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2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4560" y="893520"/>
                        <a:ext cx="2736000" cy="130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3" name="Text Box 5"/>
              <p:cNvSpPr/>
              <p:nvPr/>
            </p:nvSpPr>
            <p:spPr>
              <a:xfrm>
                <a:off x="1928520" y="2094120"/>
                <a:ext cx="106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Malt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6"/>
              <p:cNvSpPr/>
              <p:nvPr/>
            </p:nvSpPr>
            <p:spPr>
              <a:xfrm>
                <a:off x="4066560" y="1554840"/>
                <a:ext cx="158400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4415400" y="1188360"/>
                <a:ext cx="101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Malt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16" name="Object 8"/>
              <p:cNvGraphicFramePr/>
              <p:nvPr/>
            </p:nvGraphicFramePr>
            <p:xfrm>
              <a:off x="6099480" y="835200"/>
              <a:ext cx="1423440" cy="1437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17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099480" y="835200"/>
                        <a:ext cx="1423440" cy="143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8" name="Text Box 9"/>
              <p:cNvSpPr/>
              <p:nvPr/>
            </p:nvSpPr>
            <p:spPr>
              <a:xfrm>
                <a:off x="5724720" y="1404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10"/>
              <p:cNvSpPr/>
              <p:nvPr/>
            </p:nvSpPr>
            <p:spPr>
              <a:xfrm>
                <a:off x="6321600" y="20210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"/>
            <p:cNvGrpSpPr/>
            <p:nvPr/>
          </p:nvGrpSpPr>
          <p:grpSpPr>
            <a:xfrm>
              <a:off x="4257360" y="1303920"/>
              <a:ext cx="1314000" cy="1474560"/>
              <a:chOff x="4257360" y="1303920"/>
              <a:chExt cx="1314000" cy="1474560"/>
            </a:xfrm>
          </p:grpSpPr>
          <p:sp>
            <p:nvSpPr>
              <p:cNvPr id="221" name="AutoShape 12"/>
              <p:cNvSpPr/>
              <p:nvPr/>
            </p:nvSpPr>
            <p:spPr>
              <a:xfrm flipH="1" flipV="1" rot="6960000">
                <a:off x="4306680" y="1611360"/>
                <a:ext cx="1222200" cy="85788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13"/>
              <p:cNvSpPr/>
              <p:nvPr/>
            </p:nvSpPr>
            <p:spPr>
              <a:xfrm>
                <a:off x="4257360" y="18259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14"/>
          <p:cNvGrpSpPr/>
          <p:nvPr/>
        </p:nvGrpSpPr>
        <p:grpSpPr>
          <a:xfrm>
            <a:off x="971640" y="2759040"/>
            <a:ext cx="7990920" cy="1892520"/>
            <a:chOff x="971640" y="2759040"/>
            <a:chExt cx="7990920" cy="1892520"/>
          </a:xfrm>
        </p:grpSpPr>
        <p:grpSp>
          <p:nvGrpSpPr>
            <p:cNvPr id="224" name="Group 15"/>
            <p:cNvGrpSpPr/>
            <p:nvPr/>
          </p:nvGrpSpPr>
          <p:grpSpPr>
            <a:xfrm>
              <a:off x="971640" y="2759040"/>
              <a:ext cx="7990920" cy="1607040"/>
              <a:chOff x="971640" y="2759040"/>
              <a:chExt cx="7990920" cy="1607040"/>
            </a:xfrm>
          </p:grpSpPr>
          <p:graphicFrame>
            <p:nvGraphicFramePr>
              <p:cNvPr id="225" name="Object 16"/>
              <p:cNvGraphicFramePr/>
              <p:nvPr/>
            </p:nvGraphicFramePr>
            <p:xfrm>
              <a:off x="971640" y="2759040"/>
              <a:ext cx="2818440" cy="1244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71640" y="2759040"/>
                        <a:ext cx="2818440" cy="124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Text Box 17"/>
              <p:cNvSpPr/>
              <p:nvPr/>
            </p:nvSpPr>
            <p:spPr>
              <a:xfrm>
                <a:off x="1832760" y="385956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18"/>
              <p:cNvSpPr/>
              <p:nvPr/>
            </p:nvSpPr>
            <p:spPr>
              <a:xfrm>
                <a:off x="3779280" y="3429720"/>
                <a:ext cx="1583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19"/>
              <p:cNvSpPr/>
              <p:nvPr/>
            </p:nvSpPr>
            <p:spPr>
              <a:xfrm>
                <a:off x="3998160" y="3063600"/>
                <a:ext cx="11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Sacar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30" name="Object 20"/>
              <p:cNvGraphicFramePr/>
              <p:nvPr/>
            </p:nvGraphicFramePr>
            <p:xfrm>
              <a:off x="5434560" y="2781000"/>
              <a:ext cx="1423440" cy="1438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1" name="Object 2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34560" y="2781000"/>
                        <a:ext cx="1423440" cy="143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2" name="Text Box 21"/>
              <p:cNvSpPr/>
              <p:nvPr/>
            </p:nvSpPr>
            <p:spPr>
              <a:xfrm>
                <a:off x="5656680" y="396720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22"/>
              <p:cNvSpPr/>
              <p:nvPr/>
            </p:nvSpPr>
            <p:spPr>
              <a:xfrm>
                <a:off x="6877080" y="31885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34" name="Object 23"/>
              <p:cNvGraphicFramePr/>
              <p:nvPr/>
            </p:nvGraphicFramePr>
            <p:xfrm>
              <a:off x="7162920" y="2997000"/>
              <a:ext cx="1799640" cy="1090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35" name="Object 2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2920" y="2997000"/>
                        <a:ext cx="1799640" cy="109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6" name="Text Box 24"/>
              <p:cNvSpPr/>
              <p:nvPr/>
            </p:nvSpPr>
            <p:spPr>
              <a:xfrm>
                <a:off x="7378200" y="396720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5"/>
            <p:cNvGrpSpPr/>
            <p:nvPr/>
          </p:nvGrpSpPr>
          <p:grpSpPr>
            <a:xfrm>
              <a:off x="4276440" y="3176640"/>
              <a:ext cx="1314720" cy="1474920"/>
              <a:chOff x="4276440" y="3176640"/>
              <a:chExt cx="1314720" cy="1474920"/>
            </a:xfrm>
          </p:grpSpPr>
          <p:sp>
            <p:nvSpPr>
              <p:cNvPr id="238" name="AutoShape 26"/>
              <p:cNvSpPr/>
              <p:nvPr/>
            </p:nvSpPr>
            <p:spPr>
              <a:xfrm flipH="1" flipV="1" rot="6960000">
                <a:off x="4326120" y="3484440"/>
                <a:ext cx="1222200" cy="85860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Text Box 27"/>
              <p:cNvSpPr/>
              <p:nvPr/>
            </p:nvSpPr>
            <p:spPr>
              <a:xfrm>
                <a:off x="4276440" y="36997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8"/>
          <p:cNvGrpSpPr/>
          <p:nvPr/>
        </p:nvGrpSpPr>
        <p:grpSpPr>
          <a:xfrm>
            <a:off x="1116000" y="4508640"/>
            <a:ext cx="7557840" cy="1869120"/>
            <a:chOff x="1116000" y="4508640"/>
            <a:chExt cx="7557840" cy="1869120"/>
          </a:xfrm>
        </p:grpSpPr>
        <p:grpSp>
          <p:nvGrpSpPr>
            <p:cNvPr id="241" name="Group 29"/>
            <p:cNvGrpSpPr/>
            <p:nvPr/>
          </p:nvGrpSpPr>
          <p:grpSpPr>
            <a:xfrm>
              <a:off x="1116000" y="4508640"/>
              <a:ext cx="7557840" cy="1585080"/>
              <a:chOff x="1116000" y="4508640"/>
              <a:chExt cx="7557840" cy="1585080"/>
            </a:xfrm>
          </p:grpSpPr>
          <p:graphicFrame>
            <p:nvGraphicFramePr>
              <p:cNvPr id="242" name="Object 30"/>
              <p:cNvGraphicFramePr/>
              <p:nvPr/>
            </p:nvGraphicFramePr>
            <p:xfrm>
              <a:off x="1116000" y="4581000"/>
              <a:ext cx="2496600" cy="1192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43" name="Object 3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116000" y="4581000"/>
                        <a:ext cx="2496600" cy="119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4" name="Text Box 31"/>
              <p:cNvSpPr/>
              <p:nvPr/>
            </p:nvSpPr>
            <p:spPr>
              <a:xfrm>
                <a:off x="1834560" y="569484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32"/>
              <p:cNvSpPr/>
              <p:nvPr/>
            </p:nvSpPr>
            <p:spPr>
              <a:xfrm>
                <a:off x="3779280" y="5157000"/>
                <a:ext cx="1583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Text Box 33"/>
              <p:cNvSpPr/>
              <p:nvPr/>
            </p:nvSpPr>
            <p:spPr>
              <a:xfrm>
                <a:off x="4128480" y="4790880"/>
                <a:ext cx="102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Lact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47" name="Object 34"/>
              <p:cNvGraphicFramePr/>
              <p:nvPr/>
            </p:nvGraphicFramePr>
            <p:xfrm>
              <a:off x="5434560" y="4508640"/>
              <a:ext cx="1423440" cy="1438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48" name="Object 34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4560" y="4508640"/>
                        <a:ext cx="1423440" cy="143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9" name="Text Box 35"/>
              <p:cNvSpPr/>
              <p:nvPr/>
            </p:nvSpPr>
            <p:spPr>
              <a:xfrm>
                <a:off x="5656680" y="56948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 Box 36"/>
              <p:cNvSpPr/>
              <p:nvPr/>
            </p:nvSpPr>
            <p:spPr>
              <a:xfrm>
                <a:off x="6877080" y="4915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51" name="Object 37"/>
              <p:cNvGraphicFramePr/>
              <p:nvPr/>
            </p:nvGraphicFramePr>
            <p:xfrm>
              <a:off x="7234560" y="4532040"/>
              <a:ext cx="1439280" cy="1271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52" name="Object 37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34560" y="4532040"/>
                        <a:ext cx="1439280" cy="127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Text Box 38"/>
              <p:cNvSpPr/>
              <p:nvPr/>
            </p:nvSpPr>
            <p:spPr>
              <a:xfrm>
                <a:off x="7305840" y="569484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39"/>
            <p:cNvGrpSpPr/>
            <p:nvPr/>
          </p:nvGrpSpPr>
          <p:grpSpPr>
            <a:xfrm>
              <a:off x="4182480" y="4903920"/>
              <a:ext cx="1314720" cy="1473840"/>
              <a:chOff x="4182480" y="4903920"/>
              <a:chExt cx="1314720" cy="1473840"/>
            </a:xfrm>
          </p:grpSpPr>
          <p:sp>
            <p:nvSpPr>
              <p:cNvPr id="255" name="AutoShape 40"/>
              <p:cNvSpPr/>
              <p:nvPr/>
            </p:nvSpPr>
            <p:spPr>
              <a:xfrm flipH="1" flipV="1" rot="6960000">
                <a:off x="4232520" y="5212440"/>
                <a:ext cx="1222200" cy="85680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Text Box 41"/>
              <p:cNvSpPr/>
              <p:nvPr/>
            </p:nvSpPr>
            <p:spPr>
              <a:xfrm>
                <a:off x="4182480" y="542664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43"/>
          <p:cNvSpPr/>
          <p:nvPr/>
        </p:nvSpPr>
        <p:spPr>
          <a:xfrm>
            <a:off x="4211640" y="1844640"/>
            <a:ext cx="647640" cy="504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44"/>
          <p:cNvSpPr/>
          <p:nvPr/>
        </p:nvSpPr>
        <p:spPr>
          <a:xfrm>
            <a:off x="4211640" y="3716280"/>
            <a:ext cx="647640" cy="504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45"/>
          <p:cNvSpPr/>
          <p:nvPr/>
        </p:nvSpPr>
        <p:spPr>
          <a:xfrm>
            <a:off x="4140360" y="5445000"/>
            <a:ext cx="647640" cy="505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539640" y="128412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99"/>
                </a:solidFill>
                <a:latin typeface="Arial"/>
              </a:rPr>
              <a:t>Digestión.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99"/>
                </a:solidFill>
                <a:latin typeface="Arial"/>
              </a:rPr>
              <a:t>Absorción de nutrientes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etabolización.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322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323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indefinite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19200" y="907920"/>
            <a:ext cx="1700280" cy="3457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2482920" y="2060640"/>
            <a:ext cx="1873080" cy="1817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4378320" y="2852640"/>
            <a:ext cx="1488960" cy="1584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2592360" cy="1747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1519200" y="27936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ructuras especializadas en absor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340000" y="1197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Hum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116000" y="1355760"/>
            <a:ext cx="6840720" cy="41036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596160" y="22082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Calibri"/>
              </a:rPr>
              <a:t>Luz intest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493440" y="530064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Calibri"/>
              </a:rPr>
              <a:t>Citosol del enteroc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1692360" y="1341360"/>
            <a:ext cx="5759280" cy="5047200"/>
            <a:chOff x="1692360" y="1341360"/>
            <a:chExt cx="5759280" cy="5047200"/>
          </a:xfrm>
        </p:grpSpPr>
        <p:grpSp>
          <p:nvGrpSpPr>
            <p:cNvPr id="274" name="Group 3"/>
            <p:cNvGrpSpPr/>
            <p:nvPr/>
          </p:nvGrpSpPr>
          <p:grpSpPr>
            <a:xfrm>
              <a:off x="1692360" y="1341360"/>
              <a:ext cx="5759280" cy="5023080"/>
              <a:chOff x="1692360" y="1341360"/>
              <a:chExt cx="5759280" cy="5023080"/>
            </a:xfrm>
          </p:grpSpPr>
          <p:pic>
            <p:nvPicPr>
              <p:cNvPr id="275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59280" cy="502308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276" name="Text Box 5"/>
              <p:cNvSpPr/>
              <p:nvPr/>
            </p:nvSpPr>
            <p:spPr>
              <a:xfrm>
                <a:off x="2034360" y="581544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333333"/>
                    </a:solidFill>
                    <a:latin typeface="Arial"/>
                  </a:rPr>
                  <a:t>SGLU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Text Box 6"/>
              <p:cNvSpPr/>
              <p:nvPr/>
            </p:nvSpPr>
            <p:spPr>
              <a:xfrm>
                <a:off x="1987200" y="43052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7"/>
              <p:cNvSpPr/>
              <p:nvPr/>
            </p:nvSpPr>
            <p:spPr>
              <a:xfrm>
                <a:off x="6441840" y="44478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Text Box 8"/>
            <p:cNvSpPr/>
            <p:nvPr/>
          </p:nvSpPr>
          <p:spPr>
            <a:xfrm>
              <a:off x="3947040" y="611208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9"/>
          <p:cNvSpPr/>
          <p:nvPr/>
        </p:nvSpPr>
        <p:spPr>
          <a:xfrm>
            <a:off x="176400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637236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11"/>
          <p:cNvGrpSpPr/>
          <p:nvPr/>
        </p:nvGrpSpPr>
        <p:grpSpPr>
          <a:xfrm>
            <a:off x="1908000" y="2276640"/>
            <a:ext cx="4856400" cy="717120"/>
            <a:chOff x="1908000" y="2276640"/>
            <a:chExt cx="4856400" cy="717120"/>
          </a:xfrm>
        </p:grpSpPr>
        <p:sp>
          <p:nvSpPr>
            <p:cNvPr id="283" name="Text Box 12"/>
            <p:cNvSpPr/>
            <p:nvPr/>
          </p:nvSpPr>
          <p:spPr>
            <a:xfrm>
              <a:off x="1908000" y="2707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13"/>
            <p:cNvSpPr/>
            <p:nvPr/>
          </p:nvSpPr>
          <p:spPr>
            <a:xfrm>
              <a:off x="2700000" y="270720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403308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5"/>
            <p:cNvSpPr/>
            <p:nvPr/>
          </p:nvSpPr>
          <p:spPr>
            <a:xfrm>
              <a:off x="4354920" y="270720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2916000" y="2851200"/>
              <a:ext cx="115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7"/>
            <p:cNvSpPr/>
            <p:nvPr/>
          </p:nvSpPr>
          <p:spPr>
            <a:xfrm>
              <a:off x="3131280" y="2778480"/>
              <a:ext cx="360000" cy="21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>
              <a:off x="4786920" y="2851200"/>
              <a:ext cx="115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9"/>
            <p:cNvSpPr/>
            <p:nvPr/>
          </p:nvSpPr>
          <p:spPr>
            <a:xfrm>
              <a:off x="5291640" y="2778480"/>
              <a:ext cx="360000" cy="21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0"/>
            <p:cNvSpPr/>
            <p:nvPr/>
          </p:nvSpPr>
          <p:spPr>
            <a:xfrm flipH="1">
              <a:off x="3418560" y="2420640"/>
              <a:ext cx="650520" cy="35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>
              <a:off x="4715280" y="2420640"/>
              <a:ext cx="647280" cy="35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5938920" y="2707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539640" y="1284120"/>
            <a:ext cx="8099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99"/>
                </a:solidFill>
                <a:latin typeface="Arial"/>
              </a:rPr>
              <a:t>Digestión.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99"/>
                </a:solidFill>
                <a:latin typeface="Arial"/>
              </a:rPr>
              <a:t>Absorción de nutrientes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etabolización.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360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361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indefinite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indefinite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1553760" y="461880"/>
            <a:ext cx="60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1337760" y="398952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222520" y="398952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SI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755640" y="134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1- Obtener energía y poder reductor a partir de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2- Degradar compuestos ingresados o de reserva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á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s simples, utilizables como precursores para la síntesis de moléculas constituyentes de órganos y tejidos y otras sustancias necesarias para su funciona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2509920" y="3706920"/>
            <a:ext cx="18000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ótrof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otosint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957920" y="3645000"/>
            <a:ext cx="1726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terótrof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22232" t="36771" r="12640" b="36745"/>
          <a:stretch/>
        </p:blipFill>
        <p:spPr>
          <a:xfrm>
            <a:off x="3373560" y="2187720"/>
            <a:ext cx="2952720" cy="14396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4"/>
          <p:cNvGrpSpPr/>
          <p:nvPr/>
        </p:nvGrpSpPr>
        <p:grpSpPr>
          <a:xfrm>
            <a:off x="2149560" y="404640"/>
            <a:ext cx="1869840" cy="3147840"/>
            <a:chOff x="2149560" y="404640"/>
            <a:chExt cx="1869840" cy="3147840"/>
          </a:xfrm>
        </p:grpSpPr>
        <p:pic>
          <p:nvPicPr>
            <p:cNvPr id="55" name="Picture 5" descr=""/>
            <p:cNvPicPr/>
            <p:nvPr/>
          </p:nvPicPr>
          <p:blipFill>
            <a:blip r:embed="rId2"/>
            <a:srcRect l="9528" t="32798" r="76212" b="38087"/>
            <a:stretch/>
          </p:blipFill>
          <p:spPr>
            <a:xfrm>
              <a:off x="2724840" y="1971000"/>
              <a:ext cx="647280" cy="15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"/>
            <p:cNvPicPr/>
            <p:nvPr/>
          </p:nvPicPr>
          <p:blipFill>
            <a:blip r:embed="rId3"/>
            <a:srcRect l="0" t="0" r="58723" b="69878"/>
            <a:stretch/>
          </p:blipFill>
          <p:spPr>
            <a:xfrm>
              <a:off x="2149560" y="404640"/>
              <a:ext cx="1869840" cy="163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7"/>
          <p:cNvSpPr/>
          <p:nvPr/>
        </p:nvSpPr>
        <p:spPr>
          <a:xfrm>
            <a:off x="6903000" y="3746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854640" y="37720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971640" y="4221000"/>
            <a:ext cx="6931080" cy="2253600"/>
            <a:chOff x="971640" y="4221000"/>
            <a:chExt cx="6931080" cy="2253600"/>
          </a:xfrm>
        </p:grpSpPr>
        <p:sp>
          <p:nvSpPr>
            <p:cNvPr id="60" name="Line 10"/>
            <p:cNvSpPr/>
            <p:nvPr/>
          </p:nvSpPr>
          <p:spPr>
            <a:xfrm>
              <a:off x="7523280" y="4221000"/>
              <a:ext cx="1080" cy="158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11"/>
            <p:cNvSpPr/>
            <p:nvPr/>
          </p:nvSpPr>
          <p:spPr>
            <a:xfrm flipH="1">
              <a:off x="1401480" y="4221000"/>
              <a:ext cx="4320" cy="165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ext Box 12"/>
            <p:cNvSpPr/>
            <p:nvPr/>
          </p:nvSpPr>
          <p:spPr>
            <a:xfrm>
              <a:off x="971640" y="5893200"/>
              <a:ext cx="69310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3200" spc="-1" strike="noStrike">
                  <a:solidFill>
                    <a:srgbClr val="0000ff"/>
                  </a:solidFill>
                  <a:latin typeface="Times New Roman"/>
                </a:rPr>
                <a:t>M  E  T  A  B  O  L  I  S  M  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3301920" y="4348080"/>
            <a:ext cx="2951280" cy="1276560"/>
            <a:chOff x="3301920" y="4348080"/>
            <a:chExt cx="2951280" cy="1276560"/>
          </a:xfrm>
        </p:grpSpPr>
        <p:pic>
          <p:nvPicPr>
            <p:cNvPr id="64" name="Picture 14" descr=""/>
            <p:cNvPicPr/>
            <p:nvPr/>
          </p:nvPicPr>
          <p:blipFill>
            <a:blip r:embed="rId4"/>
            <a:srcRect l="22232" t="76501" r="12640" b="0"/>
            <a:stretch/>
          </p:blipFill>
          <p:spPr>
            <a:xfrm>
              <a:off x="3301920" y="4348080"/>
              <a:ext cx="295128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5"/>
            <p:cNvSpPr/>
            <p:nvPr/>
          </p:nvSpPr>
          <p:spPr>
            <a:xfrm>
              <a:off x="4487040" y="512820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Text Box 16"/>
          <p:cNvSpPr/>
          <p:nvPr/>
        </p:nvSpPr>
        <p:spPr>
          <a:xfrm>
            <a:off x="2949480" y="1350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Energía para la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3348000" y="4383000"/>
            <a:ext cx="2951280" cy="1276560"/>
            <a:chOff x="3348000" y="4383000"/>
            <a:chExt cx="2951280" cy="1276560"/>
          </a:xfrm>
        </p:grpSpPr>
        <p:pic>
          <p:nvPicPr>
            <p:cNvPr id="68" name="Picture 18" descr=""/>
            <p:cNvPicPr/>
            <p:nvPr/>
          </p:nvPicPr>
          <p:blipFill>
            <a:blip r:embed="rId5"/>
            <a:srcRect l="22232" t="76501" r="12640" b="0"/>
            <a:stretch/>
          </p:blipFill>
          <p:spPr>
            <a:xfrm>
              <a:off x="3348000" y="4383000"/>
              <a:ext cx="295128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9"/>
            <p:cNvSpPr/>
            <p:nvPr/>
          </p:nvSpPr>
          <p:spPr>
            <a:xfrm>
              <a:off x="4533120" y="516312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305280" y="32004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Ca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7086600" y="32004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An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160800" y="260280"/>
            <a:ext cx="27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Times New Roman"/>
              </a:rPr>
              <a:t>METABOLIS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1799280" y="1341360"/>
            <a:ext cx="4167000" cy="4230000"/>
            <a:chOff x="1799280" y="1341360"/>
            <a:chExt cx="4167000" cy="4230000"/>
          </a:xfrm>
        </p:grpSpPr>
        <p:sp>
          <p:nvSpPr>
            <p:cNvPr id="304" name="Text Box 5"/>
            <p:cNvSpPr/>
            <p:nvPr/>
          </p:nvSpPr>
          <p:spPr>
            <a:xfrm>
              <a:off x="2860920" y="1341360"/>
              <a:ext cx="31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660066"/>
                  </a:solidFill>
                  <a:latin typeface="Times New Roman"/>
                </a:rPr>
                <a:t>Estructuras complej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3130560" y="474228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660066"/>
                  </a:solidFill>
                  <a:latin typeface="Times New Roman"/>
                </a:rPr>
                <a:t>Estructuras simp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4099320" y="293256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36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</a:t>
              </a:r>
              <a:r>
                <a:rPr b="1" lang="es-ES" sz="3600" spc="-1" strike="noStrike">
                  <a:solidFill>
                    <a:srgbClr val="ff660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8"/>
            <p:cNvSpPr/>
            <p:nvPr/>
          </p:nvSpPr>
          <p:spPr>
            <a:xfrm rot="21360000">
              <a:off x="1936800" y="1558440"/>
              <a:ext cx="1036080" cy="3981600"/>
            </a:xfrm>
            <a:custGeom>
              <a:avLst/>
              <a:gdLst>
                <a:gd name="textAreaLeft" fmla="*/ 138600 w 1036080"/>
                <a:gd name="textAreaRight" fmla="*/ 897480 w 1036080"/>
                <a:gd name="textAreaTop" fmla="*/ 806760 h 3981600"/>
                <a:gd name="textAreaBottom" fmla="*/ 2733120 h 398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9"/>
            <p:cNvSpPr/>
            <p:nvPr/>
          </p:nvSpPr>
          <p:spPr>
            <a:xfrm rot="16200000">
              <a:off x="1307520" y="307044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utoShape 10"/>
            <p:cNvSpPr/>
            <p:nvPr/>
          </p:nvSpPr>
          <p:spPr>
            <a:xfrm>
              <a:off x="2679120" y="3151080"/>
              <a:ext cx="1331640" cy="28872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11"/>
          <p:cNvGrpSpPr/>
          <p:nvPr/>
        </p:nvGrpSpPr>
        <p:grpSpPr>
          <a:xfrm>
            <a:off x="5076720" y="1123920"/>
            <a:ext cx="1940760" cy="3959280"/>
            <a:chOff x="5076720" y="1123920"/>
            <a:chExt cx="1940760" cy="3959280"/>
          </a:xfrm>
        </p:grpSpPr>
        <p:sp>
          <p:nvSpPr>
            <p:cNvPr id="311" name="AutoShape 12"/>
            <p:cNvSpPr/>
            <p:nvPr/>
          </p:nvSpPr>
          <p:spPr>
            <a:xfrm rot="10800000">
              <a:off x="6011280" y="1123920"/>
              <a:ext cx="1006200" cy="3959280"/>
            </a:xfrm>
            <a:custGeom>
              <a:avLst/>
              <a:gdLst>
                <a:gd name="textAreaLeft" fmla="*/ 134640 w 1006200"/>
                <a:gd name="textAreaRight" fmla="*/ 871560 w 1006200"/>
                <a:gd name="textAreaTop" fmla="*/ 802080 h 3959280"/>
                <a:gd name="textAreaBottom" fmla="*/ 2718000 h 39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 rot="16200000">
              <a:off x="6008040" y="324864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SINTES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AutoShape 14"/>
            <p:cNvSpPr/>
            <p:nvPr/>
          </p:nvSpPr>
          <p:spPr>
            <a:xfrm>
              <a:off x="5076720" y="3137400"/>
              <a:ext cx="1293480" cy="28692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871560" y="907920"/>
            <a:ext cx="1396800" cy="1555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trien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ene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Ener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arbohidra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Arial"/>
              </a:rPr>
              <a:t>Líp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Proteí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716200" y="907920"/>
            <a:ext cx="5526360" cy="1815840"/>
            <a:chOff x="2716200" y="907920"/>
            <a:chExt cx="5526360" cy="1815840"/>
          </a:xfrm>
        </p:grpSpPr>
        <p:sp>
          <p:nvSpPr>
            <p:cNvPr id="316" name="AutoShape 3"/>
            <p:cNvSpPr/>
            <p:nvPr/>
          </p:nvSpPr>
          <p:spPr>
            <a:xfrm>
              <a:off x="2716200" y="1052280"/>
              <a:ext cx="3886200" cy="1295640"/>
            </a:xfrm>
            <a:prstGeom prst="rightArrow">
              <a:avLst>
                <a:gd name="adj1" fmla="val 45657"/>
                <a:gd name="adj2" fmla="val 55976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IAS CATABOLIC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(Degradación oxidativ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7132320" y="907920"/>
              <a:ext cx="1110240" cy="18158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duct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inal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t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Arial"/>
                </a:rPr>
                <a:t>CO</a:t>
              </a:r>
              <a:r>
                <a:rPr b="1" lang="es-ES" sz="1400" spc="-1" strike="noStrike" baseline="-18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r>
                <a:rPr b="1" lang="es-ES" sz="1400" spc="-1" strike="noStrike" baseline="-18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" sz="1200" spc="-1" strike="noStrike" baseline="-18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Oval 5"/>
          <p:cNvSpPr/>
          <p:nvPr/>
        </p:nvSpPr>
        <p:spPr>
          <a:xfrm>
            <a:off x="2411280" y="2708280"/>
            <a:ext cx="1297080" cy="1297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400" spc="-1" strike="noStrike" baseline="24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400" spc="-1" strike="noStrike" baseline="26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DP+HPO</a:t>
            </a:r>
            <a:r>
              <a:rPr b="1" lang="es-ES" sz="1400" spc="-1" strike="noStrike" baseline="-18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400" spc="-1" strike="noStrike" baseline="24000">
                <a:solidFill>
                  <a:srgbClr val="000000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6"/>
          <p:cNvGrpSpPr/>
          <p:nvPr/>
        </p:nvGrpSpPr>
        <p:grpSpPr>
          <a:xfrm>
            <a:off x="2916360" y="2060640"/>
            <a:ext cx="3623040" cy="1942920"/>
            <a:chOff x="2916360" y="2060640"/>
            <a:chExt cx="3623040" cy="1942920"/>
          </a:xfrm>
        </p:grpSpPr>
        <p:grpSp>
          <p:nvGrpSpPr>
            <p:cNvPr id="320" name="Group 7"/>
            <p:cNvGrpSpPr/>
            <p:nvPr/>
          </p:nvGrpSpPr>
          <p:grpSpPr>
            <a:xfrm>
              <a:off x="4354560" y="2708280"/>
              <a:ext cx="2184840" cy="1295280"/>
              <a:chOff x="4354560" y="2708280"/>
              <a:chExt cx="2184840" cy="1295280"/>
            </a:xfrm>
          </p:grpSpPr>
          <p:sp>
            <p:nvSpPr>
              <p:cNvPr id="321" name="Oval 8"/>
              <p:cNvSpPr/>
              <p:nvPr/>
            </p:nvSpPr>
            <p:spPr>
              <a:xfrm>
                <a:off x="4354560" y="2708280"/>
                <a:ext cx="1296000" cy="12952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P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s-ES" sz="1400" spc="-1" strike="noStrike" baseline="-18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5654520" y="3066480"/>
                <a:ext cx="884880" cy="520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Energía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Químic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AutoShape 10"/>
            <p:cNvSpPr/>
            <p:nvPr/>
          </p:nvSpPr>
          <p:spPr>
            <a:xfrm>
              <a:off x="2916360" y="2060640"/>
              <a:ext cx="2519280" cy="576360"/>
            </a:xfrm>
            <a:custGeom>
              <a:avLst/>
              <a:gdLst>
                <a:gd name="textAreaLeft" fmla="*/ 440640 w 2519280"/>
                <a:gd name="textAreaRight" fmla="*/ 1826640 w 251928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Text Box 11"/>
          <p:cNvSpPr/>
          <p:nvPr/>
        </p:nvSpPr>
        <p:spPr>
          <a:xfrm>
            <a:off x="6513120" y="4149720"/>
            <a:ext cx="187236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écul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ecursor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onosacár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Arial"/>
              </a:rPr>
              <a:t>Ácidos gra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Aminoác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Arial"/>
              </a:rPr>
              <a:t>Bases nitrogena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2"/>
          <p:cNvGrpSpPr/>
          <p:nvPr/>
        </p:nvGrpSpPr>
        <p:grpSpPr>
          <a:xfrm>
            <a:off x="533160" y="4076640"/>
            <a:ext cx="5692680" cy="1729800"/>
            <a:chOff x="533160" y="4076640"/>
            <a:chExt cx="5692680" cy="1729800"/>
          </a:xfrm>
        </p:grpSpPr>
        <p:sp>
          <p:nvSpPr>
            <p:cNvPr id="326" name="AutoShape 13"/>
            <p:cNvSpPr/>
            <p:nvPr/>
          </p:nvSpPr>
          <p:spPr>
            <a:xfrm>
              <a:off x="2194920" y="4365360"/>
              <a:ext cx="4030920" cy="1366920"/>
            </a:xfrm>
            <a:prstGeom prst="leftArrow">
              <a:avLst>
                <a:gd name="adj1" fmla="val 41296"/>
                <a:gd name="adj2" fmla="val 56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VIAS ANABOLIC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(Síntesis reductor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4"/>
            <p:cNvSpPr/>
            <p:nvPr/>
          </p:nvSpPr>
          <p:spPr>
            <a:xfrm>
              <a:off x="533160" y="4220640"/>
              <a:ext cx="1665000" cy="1585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acromolécul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elula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Arial"/>
                </a:rPr>
                <a:t>Polisacári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15"/>
            <p:cNvSpPr/>
            <p:nvPr/>
          </p:nvSpPr>
          <p:spPr>
            <a:xfrm flipH="1">
              <a:off x="2841840" y="4076640"/>
              <a:ext cx="2375640" cy="646920"/>
            </a:xfrm>
            <a:custGeom>
              <a:avLst/>
              <a:gdLst>
                <a:gd name="textAreaLeft" fmla="*/ 415440 w 2375640"/>
                <a:gd name="textAreaRight" fmla="*/ 1722240 w 2375640"/>
                <a:gd name="textAreaTop" fmla="*/ 86400 h 646920"/>
                <a:gd name="textAreaBottom" fmla="*/ 56052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468360" y="279360"/>
            <a:ext cx="83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Esquemas de distintos tipos de secuencias metaból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227952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682720" y="1125360"/>
            <a:ext cx="1122840" cy="746640"/>
            <a:chOff x="2682720" y="1125360"/>
            <a:chExt cx="1122840" cy="746640"/>
          </a:xfrm>
        </p:grpSpPr>
        <p:sp>
          <p:nvSpPr>
            <p:cNvPr id="332" name="Text Box 4"/>
            <p:cNvSpPr/>
            <p:nvPr/>
          </p:nvSpPr>
          <p:spPr>
            <a:xfrm>
              <a:off x="3405240" y="141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2682720" y="1627560"/>
              <a:ext cx="7207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6"/>
            <p:cNvSpPr/>
            <p:nvPr/>
          </p:nvSpPr>
          <p:spPr>
            <a:xfrm>
              <a:off x="2835000" y="112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7"/>
          <p:cNvGrpSpPr/>
          <p:nvPr/>
        </p:nvGrpSpPr>
        <p:grpSpPr>
          <a:xfrm>
            <a:off x="3762360" y="1125360"/>
            <a:ext cx="1122480" cy="746640"/>
            <a:chOff x="3762360" y="1125360"/>
            <a:chExt cx="1122480" cy="746640"/>
          </a:xfrm>
        </p:grpSpPr>
        <p:sp>
          <p:nvSpPr>
            <p:cNvPr id="336" name="Text Box 8"/>
            <p:cNvSpPr/>
            <p:nvPr/>
          </p:nvSpPr>
          <p:spPr>
            <a:xfrm>
              <a:off x="4484520" y="141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3762360" y="1627560"/>
              <a:ext cx="7207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0"/>
            <p:cNvSpPr/>
            <p:nvPr/>
          </p:nvSpPr>
          <p:spPr>
            <a:xfrm>
              <a:off x="3909960" y="1125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Group 11"/>
          <p:cNvGrpSpPr/>
          <p:nvPr/>
        </p:nvGrpSpPr>
        <p:grpSpPr>
          <a:xfrm>
            <a:off x="4915080" y="1125360"/>
            <a:ext cx="2256480" cy="746640"/>
            <a:chOff x="4915080" y="1125360"/>
            <a:chExt cx="2256480" cy="746640"/>
          </a:xfrm>
        </p:grpSpPr>
        <p:sp>
          <p:nvSpPr>
            <p:cNvPr id="340" name="Text Box 12"/>
            <p:cNvSpPr/>
            <p:nvPr/>
          </p:nvSpPr>
          <p:spPr>
            <a:xfrm>
              <a:off x="5636160" y="141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6788160" y="1412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4"/>
            <p:cNvSpPr/>
            <p:nvPr/>
          </p:nvSpPr>
          <p:spPr>
            <a:xfrm>
              <a:off x="4915080" y="1627560"/>
              <a:ext cx="72000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5"/>
            <p:cNvSpPr/>
            <p:nvPr/>
          </p:nvSpPr>
          <p:spPr>
            <a:xfrm>
              <a:off x="6066360" y="1627560"/>
              <a:ext cx="72000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6"/>
            <p:cNvSpPr/>
            <p:nvPr/>
          </p:nvSpPr>
          <p:spPr>
            <a:xfrm>
              <a:off x="4979160" y="112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6218640" y="1125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916520" y="1747800"/>
            <a:ext cx="2315520" cy="675000"/>
            <a:chOff x="4916520" y="1747800"/>
            <a:chExt cx="2315520" cy="675000"/>
          </a:xfrm>
        </p:grpSpPr>
        <p:sp>
          <p:nvSpPr>
            <p:cNvPr id="347" name="Line 19"/>
            <p:cNvSpPr/>
            <p:nvPr/>
          </p:nvSpPr>
          <p:spPr>
            <a:xfrm>
              <a:off x="4916520" y="1773000"/>
              <a:ext cx="573480" cy="430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636160" y="1963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21"/>
            <p:cNvSpPr/>
            <p:nvPr/>
          </p:nvSpPr>
          <p:spPr>
            <a:xfrm>
              <a:off x="6813720" y="1963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6065640" y="2203560"/>
              <a:ext cx="71964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23"/>
            <p:cNvSpPr/>
            <p:nvPr/>
          </p:nvSpPr>
          <p:spPr>
            <a:xfrm>
              <a:off x="6211080" y="1747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24"/>
          <p:cNvGrpSpPr/>
          <p:nvPr/>
        </p:nvGrpSpPr>
        <p:grpSpPr>
          <a:xfrm>
            <a:off x="2268360" y="2494080"/>
            <a:ext cx="4890600" cy="746280"/>
            <a:chOff x="2268360" y="2494080"/>
            <a:chExt cx="4890600" cy="746280"/>
          </a:xfrm>
        </p:grpSpPr>
        <p:sp>
          <p:nvSpPr>
            <p:cNvPr id="353" name="Text Box 25"/>
            <p:cNvSpPr/>
            <p:nvPr/>
          </p:nvSpPr>
          <p:spPr>
            <a:xfrm>
              <a:off x="2268360" y="278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3392640" y="278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4471560" y="278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5623200" y="278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29"/>
            <p:cNvSpPr/>
            <p:nvPr/>
          </p:nvSpPr>
          <p:spPr>
            <a:xfrm>
              <a:off x="6775560" y="2780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671560" y="2995920"/>
              <a:ext cx="72000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3750120" y="2995920"/>
              <a:ext cx="72000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2"/>
            <p:cNvSpPr/>
            <p:nvPr/>
          </p:nvSpPr>
          <p:spPr>
            <a:xfrm>
              <a:off x="4902120" y="2995920"/>
              <a:ext cx="72000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3"/>
            <p:cNvSpPr/>
            <p:nvPr/>
          </p:nvSpPr>
          <p:spPr>
            <a:xfrm>
              <a:off x="6053760" y="2995920"/>
              <a:ext cx="72000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34"/>
            <p:cNvSpPr/>
            <p:nvPr/>
          </p:nvSpPr>
          <p:spPr>
            <a:xfrm>
              <a:off x="2823120" y="249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35"/>
            <p:cNvSpPr/>
            <p:nvPr/>
          </p:nvSpPr>
          <p:spPr>
            <a:xfrm>
              <a:off x="3897720" y="249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36"/>
            <p:cNvSpPr/>
            <p:nvPr/>
          </p:nvSpPr>
          <p:spPr>
            <a:xfrm>
              <a:off x="4966560" y="249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37"/>
            <p:cNvSpPr/>
            <p:nvPr/>
          </p:nvSpPr>
          <p:spPr>
            <a:xfrm>
              <a:off x="6205680" y="249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38"/>
          <p:cNvGrpSpPr/>
          <p:nvPr/>
        </p:nvGrpSpPr>
        <p:grpSpPr>
          <a:xfrm>
            <a:off x="2627280" y="3141720"/>
            <a:ext cx="1798200" cy="0"/>
            <a:chOff x="2627280" y="3141720"/>
            <a:chExt cx="1798200" cy="0"/>
          </a:xfrm>
        </p:grpSpPr>
        <p:sp>
          <p:nvSpPr>
            <p:cNvPr id="367" name="Line 39"/>
            <p:cNvSpPr/>
            <p:nvPr/>
          </p:nvSpPr>
          <p:spPr>
            <a:xfrm>
              <a:off x="3705840" y="3141720"/>
              <a:ext cx="71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0"/>
            <p:cNvSpPr/>
            <p:nvPr/>
          </p:nvSpPr>
          <p:spPr>
            <a:xfrm>
              <a:off x="2627280" y="3141720"/>
              <a:ext cx="71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41"/>
          <p:cNvGrpSpPr/>
          <p:nvPr/>
        </p:nvGrpSpPr>
        <p:grpSpPr>
          <a:xfrm>
            <a:off x="4859280" y="3141720"/>
            <a:ext cx="1871280" cy="0"/>
            <a:chOff x="4859280" y="3141720"/>
            <a:chExt cx="1871280" cy="0"/>
          </a:xfrm>
        </p:grpSpPr>
        <p:sp>
          <p:nvSpPr>
            <p:cNvPr id="370" name="Line 42"/>
            <p:cNvSpPr/>
            <p:nvPr/>
          </p:nvSpPr>
          <p:spPr>
            <a:xfrm>
              <a:off x="4859280" y="3141720"/>
              <a:ext cx="720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>
              <a:off x="6010560" y="3141720"/>
              <a:ext cx="720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96"/>
          <p:cNvGrpSpPr/>
          <p:nvPr/>
        </p:nvGrpSpPr>
        <p:grpSpPr>
          <a:xfrm>
            <a:off x="2277720" y="4049640"/>
            <a:ext cx="1401480" cy="2261520"/>
            <a:chOff x="2277720" y="4049640"/>
            <a:chExt cx="1401480" cy="2261520"/>
          </a:xfrm>
        </p:grpSpPr>
        <p:sp>
          <p:nvSpPr>
            <p:cNvPr id="373" name="Text Box 45"/>
            <p:cNvSpPr/>
            <p:nvPr/>
          </p:nvSpPr>
          <p:spPr>
            <a:xfrm>
              <a:off x="2612160" y="460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6"/>
            <p:cNvSpPr/>
            <p:nvPr/>
          </p:nvSpPr>
          <p:spPr>
            <a:xfrm>
              <a:off x="3278880" y="513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47"/>
            <p:cNvSpPr/>
            <p:nvPr/>
          </p:nvSpPr>
          <p:spPr>
            <a:xfrm>
              <a:off x="2629440" y="5851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48"/>
            <p:cNvSpPr/>
            <p:nvPr/>
          </p:nvSpPr>
          <p:spPr>
            <a:xfrm>
              <a:off x="3278160" y="5707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49"/>
            <p:cNvSpPr/>
            <p:nvPr/>
          </p:nvSpPr>
          <p:spPr>
            <a:xfrm rot="5820000">
              <a:off x="2381040" y="4956120"/>
              <a:ext cx="1152360" cy="10098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 Box 51"/>
            <p:cNvSpPr/>
            <p:nvPr/>
          </p:nvSpPr>
          <p:spPr>
            <a:xfrm>
              <a:off x="3211920" y="460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52"/>
            <p:cNvSpPr/>
            <p:nvPr/>
          </p:nvSpPr>
          <p:spPr>
            <a:xfrm rot="300000">
              <a:off x="2319120" y="4814640"/>
              <a:ext cx="1150920" cy="100944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53"/>
            <p:cNvSpPr/>
            <p:nvPr/>
          </p:nvSpPr>
          <p:spPr>
            <a:xfrm flipH="1" flipV="1">
              <a:off x="3060000" y="4049640"/>
              <a:ext cx="431640" cy="86688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54"/>
            <p:cNvSpPr/>
            <p:nvPr/>
          </p:nvSpPr>
          <p:spPr>
            <a:xfrm>
              <a:off x="2891160" y="4051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97"/>
          <p:cNvGrpSpPr/>
          <p:nvPr/>
        </p:nvGrpSpPr>
        <p:grpSpPr>
          <a:xfrm>
            <a:off x="1900080" y="3988800"/>
            <a:ext cx="1489680" cy="2322360"/>
            <a:chOff x="1900080" y="3988800"/>
            <a:chExt cx="1489680" cy="2322360"/>
          </a:xfrm>
        </p:grpSpPr>
        <p:sp>
          <p:nvSpPr>
            <p:cNvPr id="383" name="Text Box 56"/>
            <p:cNvSpPr/>
            <p:nvPr/>
          </p:nvSpPr>
          <p:spPr>
            <a:xfrm>
              <a:off x="1937520" y="5178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57"/>
            <p:cNvSpPr/>
            <p:nvPr/>
          </p:nvSpPr>
          <p:spPr>
            <a:xfrm>
              <a:off x="2053080" y="585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58"/>
            <p:cNvSpPr/>
            <p:nvPr/>
          </p:nvSpPr>
          <p:spPr>
            <a:xfrm rot="11100000">
              <a:off x="2195280" y="5081040"/>
              <a:ext cx="1152360" cy="101124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60"/>
            <p:cNvSpPr/>
            <p:nvPr/>
          </p:nvSpPr>
          <p:spPr>
            <a:xfrm rot="17040000">
              <a:off x="2049480" y="4896720"/>
              <a:ext cx="1152360" cy="101268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61"/>
            <p:cNvSpPr/>
            <p:nvPr/>
          </p:nvSpPr>
          <p:spPr>
            <a:xfrm>
              <a:off x="1900080" y="4675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62"/>
            <p:cNvSpPr/>
            <p:nvPr/>
          </p:nvSpPr>
          <p:spPr>
            <a:xfrm flipV="1" rot="21088800">
              <a:off x="2195640" y="4005360"/>
              <a:ext cx="288720" cy="861480"/>
            </a:xfrm>
            <a:prstGeom prst="pie">
              <a:avLst/>
            </a:prstGeom>
            <a:noFill/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63"/>
            <p:cNvSpPr/>
            <p:nvPr/>
          </p:nvSpPr>
          <p:spPr>
            <a:xfrm>
              <a:off x="2242080" y="4051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64"/>
          <p:cNvGrpSpPr/>
          <p:nvPr/>
        </p:nvGrpSpPr>
        <p:grpSpPr>
          <a:xfrm>
            <a:off x="4501800" y="4170240"/>
            <a:ext cx="1524240" cy="746640"/>
            <a:chOff x="4501800" y="4170240"/>
            <a:chExt cx="1524240" cy="746640"/>
          </a:xfrm>
        </p:grpSpPr>
        <p:sp>
          <p:nvSpPr>
            <p:cNvPr id="391" name="Text Box 65"/>
            <p:cNvSpPr/>
            <p:nvPr/>
          </p:nvSpPr>
          <p:spPr>
            <a:xfrm>
              <a:off x="4501800" y="4457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66"/>
            <p:cNvSpPr/>
            <p:nvPr/>
          </p:nvSpPr>
          <p:spPr>
            <a:xfrm>
              <a:off x="5625720" y="4457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67"/>
            <p:cNvSpPr/>
            <p:nvPr/>
          </p:nvSpPr>
          <p:spPr>
            <a:xfrm>
              <a:off x="4904640" y="4672440"/>
              <a:ext cx="71964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Text Box 68"/>
            <p:cNvSpPr/>
            <p:nvPr/>
          </p:nvSpPr>
          <p:spPr>
            <a:xfrm>
              <a:off x="5056560" y="4170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Group 69"/>
          <p:cNvGrpSpPr/>
          <p:nvPr/>
        </p:nvGrpSpPr>
        <p:grpSpPr>
          <a:xfrm>
            <a:off x="5078520" y="4843440"/>
            <a:ext cx="1552680" cy="793440"/>
            <a:chOff x="5078520" y="4843440"/>
            <a:chExt cx="1552680" cy="793440"/>
          </a:xfrm>
        </p:grpSpPr>
        <p:sp>
          <p:nvSpPr>
            <p:cNvPr id="396" name="Text Box 70"/>
            <p:cNvSpPr/>
            <p:nvPr/>
          </p:nvSpPr>
          <p:spPr>
            <a:xfrm>
              <a:off x="5078520" y="5177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71"/>
            <p:cNvSpPr/>
            <p:nvPr/>
          </p:nvSpPr>
          <p:spPr>
            <a:xfrm>
              <a:off x="6230880" y="5177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72"/>
            <p:cNvSpPr/>
            <p:nvPr/>
          </p:nvSpPr>
          <p:spPr>
            <a:xfrm>
              <a:off x="5508720" y="5392080"/>
              <a:ext cx="7207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73"/>
            <p:cNvSpPr/>
            <p:nvPr/>
          </p:nvSpPr>
          <p:spPr>
            <a:xfrm>
              <a:off x="5797440" y="4843440"/>
              <a:ext cx="1800" cy="430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Group 74"/>
          <p:cNvGrpSpPr/>
          <p:nvPr/>
        </p:nvGrpSpPr>
        <p:grpSpPr>
          <a:xfrm>
            <a:off x="5843520" y="5562720"/>
            <a:ext cx="1444680" cy="747000"/>
            <a:chOff x="5843520" y="5562720"/>
            <a:chExt cx="1444680" cy="747000"/>
          </a:xfrm>
        </p:grpSpPr>
        <p:sp>
          <p:nvSpPr>
            <p:cNvPr id="401" name="Text Box 75"/>
            <p:cNvSpPr/>
            <p:nvPr/>
          </p:nvSpPr>
          <p:spPr>
            <a:xfrm>
              <a:off x="6904800" y="585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76"/>
            <p:cNvSpPr/>
            <p:nvPr/>
          </p:nvSpPr>
          <p:spPr>
            <a:xfrm>
              <a:off x="6183720" y="6064920"/>
              <a:ext cx="71892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77"/>
            <p:cNvSpPr/>
            <p:nvPr/>
          </p:nvSpPr>
          <p:spPr>
            <a:xfrm>
              <a:off x="5843520" y="585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78"/>
            <p:cNvSpPr/>
            <p:nvPr/>
          </p:nvSpPr>
          <p:spPr>
            <a:xfrm>
              <a:off x="6443640" y="5562720"/>
              <a:ext cx="1440" cy="42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79"/>
          <p:cNvGrpSpPr/>
          <p:nvPr/>
        </p:nvGrpSpPr>
        <p:grpSpPr>
          <a:xfrm>
            <a:off x="4788000" y="3141720"/>
            <a:ext cx="2087280" cy="793080"/>
            <a:chOff x="4788000" y="3141720"/>
            <a:chExt cx="2087280" cy="793080"/>
          </a:xfrm>
        </p:grpSpPr>
        <p:grpSp>
          <p:nvGrpSpPr>
            <p:cNvPr id="406" name="Group 80"/>
            <p:cNvGrpSpPr/>
            <p:nvPr/>
          </p:nvGrpSpPr>
          <p:grpSpPr>
            <a:xfrm>
              <a:off x="4788000" y="3141720"/>
              <a:ext cx="2087280" cy="793080"/>
              <a:chOff x="4788000" y="3141720"/>
              <a:chExt cx="2087280" cy="793080"/>
            </a:xfrm>
          </p:grpSpPr>
          <p:sp>
            <p:nvSpPr>
              <p:cNvPr id="407" name="Line 81"/>
              <p:cNvSpPr/>
              <p:nvPr/>
            </p:nvSpPr>
            <p:spPr>
              <a:xfrm flipV="1">
                <a:off x="5939280" y="3210840"/>
                <a:ext cx="936000" cy="50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82"/>
              <p:cNvSpPr/>
              <p:nvPr/>
            </p:nvSpPr>
            <p:spPr>
              <a:xfrm>
                <a:off x="5581080" y="3475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400" spc="-1" strike="noStrike">
                    <a:solidFill>
                      <a:srgbClr val="000099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83"/>
              <p:cNvSpPr/>
              <p:nvPr/>
            </p:nvSpPr>
            <p:spPr>
              <a:xfrm>
                <a:off x="4788000" y="3141720"/>
                <a:ext cx="791280" cy="501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0" name="Text Box 84"/>
            <p:cNvSpPr/>
            <p:nvPr/>
          </p:nvSpPr>
          <p:spPr>
            <a:xfrm>
              <a:off x="6019560" y="314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85"/>
            <p:cNvSpPr/>
            <p:nvPr/>
          </p:nvSpPr>
          <p:spPr>
            <a:xfrm>
              <a:off x="5221440" y="3141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Group 86"/>
          <p:cNvGrpSpPr/>
          <p:nvPr/>
        </p:nvGrpSpPr>
        <p:grpSpPr>
          <a:xfrm>
            <a:off x="703800" y="1052640"/>
            <a:ext cx="1058040" cy="2374920"/>
            <a:chOff x="703800" y="1052640"/>
            <a:chExt cx="1058040" cy="2374920"/>
          </a:xfrm>
        </p:grpSpPr>
        <p:sp>
          <p:nvSpPr>
            <p:cNvPr id="413" name="AutoShape 87"/>
            <p:cNvSpPr/>
            <p:nvPr/>
          </p:nvSpPr>
          <p:spPr>
            <a:xfrm>
              <a:off x="1546200" y="1052640"/>
              <a:ext cx="215640" cy="23749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61920 h 2374920"/>
                <a:gd name="textAreaBottom" fmla="*/ 2313000 h 23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88"/>
            <p:cNvSpPr/>
            <p:nvPr/>
          </p:nvSpPr>
          <p:spPr>
            <a:xfrm>
              <a:off x="703800" y="1980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í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Group 89"/>
          <p:cNvGrpSpPr/>
          <p:nvPr/>
        </p:nvGrpSpPr>
        <p:grpSpPr>
          <a:xfrm>
            <a:off x="540720" y="4005360"/>
            <a:ext cx="1335240" cy="2374920"/>
            <a:chOff x="540720" y="4005360"/>
            <a:chExt cx="1335240" cy="2374920"/>
          </a:xfrm>
        </p:grpSpPr>
        <p:sp>
          <p:nvSpPr>
            <p:cNvPr id="416" name="AutoShape 90"/>
            <p:cNvSpPr/>
            <p:nvPr/>
          </p:nvSpPr>
          <p:spPr>
            <a:xfrm>
              <a:off x="1603440" y="4005360"/>
              <a:ext cx="272520" cy="2374920"/>
            </a:xfrm>
            <a:custGeom>
              <a:avLst/>
              <a:gdLst>
                <a:gd name="textAreaLeft" fmla="*/ 174240 w 272520"/>
                <a:gd name="textAreaRight" fmla="*/ 272880 w 272520"/>
                <a:gd name="textAreaTop" fmla="*/ 61920 h 2374920"/>
                <a:gd name="textAreaBottom" fmla="*/ 2313000 h 23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91"/>
            <p:cNvSpPr/>
            <p:nvPr/>
          </p:nvSpPr>
          <p:spPr>
            <a:xfrm>
              <a:off x="540720" y="4933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ic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Group 92"/>
          <p:cNvGrpSpPr/>
          <p:nvPr/>
        </p:nvGrpSpPr>
        <p:grpSpPr>
          <a:xfrm>
            <a:off x="7164360" y="4005360"/>
            <a:ext cx="1891440" cy="2590560"/>
            <a:chOff x="7164360" y="4005360"/>
            <a:chExt cx="1891440" cy="2590560"/>
          </a:xfrm>
        </p:grpSpPr>
        <p:sp>
          <p:nvSpPr>
            <p:cNvPr id="419" name="AutoShape 93"/>
            <p:cNvSpPr/>
            <p:nvPr/>
          </p:nvSpPr>
          <p:spPr>
            <a:xfrm>
              <a:off x="7164360" y="4005360"/>
              <a:ext cx="286920" cy="2590560"/>
            </a:xfrm>
            <a:custGeom>
              <a:avLst/>
              <a:gdLst>
                <a:gd name="textAreaLeft" fmla="*/ 0 w 286920"/>
                <a:gd name="textAreaRight" fmla="*/ 103680 w 286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94"/>
            <p:cNvSpPr/>
            <p:nvPr/>
          </p:nvSpPr>
          <p:spPr>
            <a:xfrm>
              <a:off x="7454880" y="505836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scad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3274920" y="5661000"/>
            <a:ext cx="1152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2"/>
          <p:cNvGrpSpPr/>
          <p:nvPr/>
        </p:nvGrpSpPr>
        <p:grpSpPr>
          <a:xfrm>
            <a:off x="4284720" y="692280"/>
            <a:ext cx="4606920" cy="5433840"/>
            <a:chOff x="4284720" y="692280"/>
            <a:chExt cx="4606920" cy="5433840"/>
          </a:xfrm>
        </p:grpSpPr>
        <p:pic>
          <p:nvPicPr>
            <p:cNvPr id="423" name="Picture 3" descr=""/>
            <p:cNvPicPr/>
            <p:nvPr/>
          </p:nvPicPr>
          <p:blipFill>
            <a:blip r:embed="rId1"/>
            <a:srcRect l="46637" t="0" r="0" b="0"/>
            <a:stretch/>
          </p:blipFill>
          <p:spPr>
            <a:xfrm>
              <a:off x="4284720" y="692280"/>
              <a:ext cx="460692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4"/>
            <p:cNvSpPr/>
            <p:nvPr/>
          </p:nvSpPr>
          <p:spPr>
            <a:xfrm>
              <a:off x="6066720" y="4075200"/>
              <a:ext cx="1820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Vías anabólic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diver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5"/>
          <p:cNvGrpSpPr/>
          <p:nvPr/>
        </p:nvGrpSpPr>
        <p:grpSpPr>
          <a:xfrm>
            <a:off x="254160" y="711360"/>
            <a:ext cx="4174560" cy="5506560"/>
            <a:chOff x="254160" y="711360"/>
            <a:chExt cx="4174560" cy="5506560"/>
          </a:xfrm>
        </p:grpSpPr>
        <p:pic>
          <p:nvPicPr>
            <p:cNvPr id="426" name="Picture 6" descr=""/>
            <p:cNvPicPr/>
            <p:nvPr/>
          </p:nvPicPr>
          <p:blipFill>
            <a:blip r:embed="rId2"/>
            <a:srcRect l="0" t="0" r="53329" b="0"/>
            <a:stretch/>
          </p:blipFill>
          <p:spPr>
            <a:xfrm>
              <a:off x="254160" y="711360"/>
              <a:ext cx="402876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7"/>
            <p:cNvSpPr/>
            <p:nvPr/>
          </p:nvSpPr>
          <p:spPr>
            <a:xfrm>
              <a:off x="663120" y="3520080"/>
              <a:ext cx="18198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ías catabólic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onver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3276720" y="5713560"/>
              <a:ext cx="115200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3003120" y="10270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Equilibrio diná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60360" y="404640"/>
            <a:ext cx="1619280" cy="2880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395280" y="457200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3"/>
          <a:stretch/>
        </p:blipFill>
        <p:spPr>
          <a:xfrm>
            <a:off x="6156360" y="4653000"/>
            <a:ext cx="1728720" cy="1469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4"/>
          <a:stretch/>
        </p:blipFill>
        <p:spPr>
          <a:xfrm>
            <a:off x="6732720" y="1484280"/>
            <a:ext cx="2124000" cy="1844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"/>
          <p:cNvPicPr/>
          <p:nvPr/>
        </p:nvPicPr>
        <p:blipFill>
          <a:blip r:embed="rId5"/>
          <a:stretch/>
        </p:blipFill>
        <p:spPr>
          <a:xfrm>
            <a:off x="2284560" y="1424160"/>
            <a:ext cx="4321080" cy="40924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7"/>
          <p:cNvSpPr/>
          <p:nvPr/>
        </p:nvSpPr>
        <p:spPr>
          <a:xfrm>
            <a:off x="4878360" y="3692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n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052720" y="369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a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"/>
          <p:cNvSpPr/>
          <p:nvPr/>
        </p:nvSpPr>
        <p:spPr>
          <a:xfrm>
            <a:off x="5221440" y="41958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n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981080" y="3284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a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2"/>
          <a:stretch/>
        </p:blipFill>
        <p:spPr>
          <a:xfrm>
            <a:off x="468360" y="693720"/>
            <a:ext cx="2054160" cy="2158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3"/>
          <a:stretch/>
        </p:blipFill>
        <p:spPr>
          <a:xfrm>
            <a:off x="755640" y="44719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"/>
          <p:cNvPicPr/>
          <p:nvPr/>
        </p:nvPicPr>
        <p:blipFill>
          <a:blip r:embed="rId4"/>
          <a:srcRect l="15888" t="2617" r="18199" b="0"/>
          <a:stretch/>
        </p:blipFill>
        <p:spPr>
          <a:xfrm>
            <a:off x="6659640" y="1125360"/>
            <a:ext cx="2087640" cy="20052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7"/>
          <p:cNvSpPr/>
          <p:nvPr/>
        </p:nvSpPr>
        <p:spPr>
          <a:xfrm>
            <a:off x="3400560" y="549360"/>
            <a:ext cx="23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8" descr=""/>
          <p:cNvPicPr/>
          <p:nvPr/>
        </p:nvPicPr>
        <p:blipFill>
          <a:blip r:embed="rId5"/>
          <a:srcRect l="0" t="14967" r="0" b="0"/>
          <a:stretch/>
        </p:blipFill>
        <p:spPr>
          <a:xfrm>
            <a:off x="6102360" y="4869000"/>
            <a:ext cx="2573280" cy="164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3738600" y="4507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vej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4599000"/>
            <a:ext cx="3600360" cy="2259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6653160" y="4076640"/>
            <a:ext cx="2239920" cy="2595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836800" cy="1887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4"/>
          <a:stretch/>
        </p:blipFill>
        <p:spPr>
          <a:xfrm>
            <a:off x="6732720" y="333360"/>
            <a:ext cx="1955520" cy="2697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5"/>
          <a:stretch/>
        </p:blipFill>
        <p:spPr>
          <a:xfrm>
            <a:off x="3060720" y="1484280"/>
            <a:ext cx="3672000" cy="3835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7"/>
          <p:cNvSpPr/>
          <p:nvPr/>
        </p:nvSpPr>
        <p:spPr>
          <a:xfrm>
            <a:off x="5149800" y="31417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n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773440" y="4149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a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1692360" y="1341360"/>
            <a:ext cx="5759280" cy="5047200"/>
            <a:chOff x="1692360" y="1341360"/>
            <a:chExt cx="5759280" cy="5047200"/>
          </a:xfrm>
        </p:grpSpPr>
        <p:grpSp>
          <p:nvGrpSpPr>
            <p:cNvPr id="455" name="Group 3"/>
            <p:cNvGrpSpPr/>
            <p:nvPr/>
          </p:nvGrpSpPr>
          <p:grpSpPr>
            <a:xfrm>
              <a:off x="1692360" y="1341360"/>
              <a:ext cx="5759280" cy="5023080"/>
              <a:chOff x="1692360" y="1341360"/>
              <a:chExt cx="5759280" cy="5023080"/>
            </a:xfrm>
          </p:grpSpPr>
          <p:pic>
            <p:nvPicPr>
              <p:cNvPr id="45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59280" cy="502308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457" name="Text Box 5"/>
              <p:cNvSpPr/>
              <p:nvPr/>
            </p:nvSpPr>
            <p:spPr>
              <a:xfrm>
                <a:off x="2034360" y="581544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333333"/>
                    </a:solidFill>
                    <a:latin typeface="Arial"/>
                  </a:rPr>
                  <a:t>SGLU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6"/>
              <p:cNvSpPr/>
              <p:nvPr/>
            </p:nvSpPr>
            <p:spPr>
              <a:xfrm>
                <a:off x="1987200" y="43052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Text Box 7"/>
              <p:cNvSpPr/>
              <p:nvPr/>
            </p:nvSpPr>
            <p:spPr>
              <a:xfrm>
                <a:off x="6441840" y="44478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Text Box 8"/>
            <p:cNvSpPr/>
            <p:nvPr/>
          </p:nvSpPr>
          <p:spPr>
            <a:xfrm>
              <a:off x="3947040" y="611208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Text Box 9"/>
          <p:cNvSpPr/>
          <p:nvPr/>
        </p:nvSpPr>
        <p:spPr>
          <a:xfrm>
            <a:off x="176400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637236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908000" y="2276640"/>
            <a:ext cx="4856400" cy="717120"/>
            <a:chOff x="1908000" y="2276640"/>
            <a:chExt cx="4856400" cy="717120"/>
          </a:xfrm>
        </p:grpSpPr>
        <p:sp>
          <p:nvSpPr>
            <p:cNvPr id="464" name="Text Box 12"/>
            <p:cNvSpPr/>
            <p:nvPr/>
          </p:nvSpPr>
          <p:spPr>
            <a:xfrm>
              <a:off x="1908000" y="2707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2700000" y="270720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4"/>
            <p:cNvSpPr/>
            <p:nvPr/>
          </p:nvSpPr>
          <p:spPr>
            <a:xfrm>
              <a:off x="403308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AutoShape 15"/>
            <p:cNvSpPr/>
            <p:nvPr/>
          </p:nvSpPr>
          <p:spPr>
            <a:xfrm>
              <a:off x="4354920" y="270720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6"/>
            <p:cNvSpPr/>
            <p:nvPr/>
          </p:nvSpPr>
          <p:spPr>
            <a:xfrm>
              <a:off x="2916000" y="2851200"/>
              <a:ext cx="115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3131280" y="2778480"/>
              <a:ext cx="360000" cy="21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8"/>
            <p:cNvSpPr/>
            <p:nvPr/>
          </p:nvSpPr>
          <p:spPr>
            <a:xfrm>
              <a:off x="4786920" y="2851200"/>
              <a:ext cx="115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"/>
            <p:cNvSpPr/>
            <p:nvPr/>
          </p:nvSpPr>
          <p:spPr>
            <a:xfrm>
              <a:off x="5291640" y="2778480"/>
              <a:ext cx="360000" cy="21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0"/>
            <p:cNvSpPr/>
            <p:nvPr/>
          </p:nvSpPr>
          <p:spPr>
            <a:xfrm flipH="1">
              <a:off x="3418560" y="2420640"/>
              <a:ext cx="650520" cy="35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21"/>
            <p:cNvSpPr/>
            <p:nvPr/>
          </p:nvSpPr>
          <p:spPr>
            <a:xfrm>
              <a:off x="4715280" y="2420640"/>
              <a:ext cx="647280" cy="35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22"/>
            <p:cNvSpPr/>
            <p:nvPr/>
          </p:nvSpPr>
          <p:spPr>
            <a:xfrm>
              <a:off x="5938920" y="2707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Oval 23"/>
          <p:cNvSpPr/>
          <p:nvPr/>
        </p:nvSpPr>
        <p:spPr>
          <a:xfrm>
            <a:off x="5940360" y="256536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24"/>
          <p:cNvSpPr/>
          <p:nvPr/>
        </p:nvSpPr>
        <p:spPr>
          <a:xfrm>
            <a:off x="6300720" y="443700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1"/>
          <p:cNvGrpSpPr/>
          <p:nvPr/>
        </p:nvGrpSpPr>
        <p:grpSpPr>
          <a:xfrm>
            <a:off x="611280" y="1268280"/>
            <a:ext cx="7772400" cy="4397400"/>
            <a:chOff x="611280" y="1268280"/>
            <a:chExt cx="7772400" cy="4397400"/>
          </a:xfrm>
        </p:grpSpPr>
        <p:grpSp>
          <p:nvGrpSpPr>
            <p:cNvPr id="478" name="Group 2"/>
            <p:cNvGrpSpPr/>
            <p:nvPr/>
          </p:nvGrpSpPr>
          <p:grpSpPr>
            <a:xfrm>
              <a:off x="611280" y="1268280"/>
              <a:ext cx="7772400" cy="4397400"/>
              <a:chOff x="611280" y="1268280"/>
              <a:chExt cx="7772400" cy="4397400"/>
            </a:xfrm>
          </p:grpSpPr>
          <p:pic>
            <p:nvPicPr>
              <p:cNvPr id="479" name="Picture 3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611280" y="1268280"/>
                <a:ext cx="7772400" cy="439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Line 4"/>
              <p:cNvSpPr/>
              <p:nvPr/>
            </p:nvSpPr>
            <p:spPr>
              <a:xfrm flipH="1">
                <a:off x="3560040" y="4219560"/>
                <a:ext cx="12981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Rectangle 5"/>
            <p:cNvSpPr/>
            <p:nvPr/>
          </p:nvSpPr>
          <p:spPr>
            <a:xfrm>
              <a:off x="4714920" y="40053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Rectangle 6"/>
          <p:cNvSpPr/>
          <p:nvPr/>
        </p:nvSpPr>
        <p:spPr>
          <a:xfrm>
            <a:off x="4788000" y="414972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69696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11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13"/>
          <p:cNvSpPr/>
          <p:nvPr/>
        </p:nvSpPr>
        <p:spPr>
          <a:xfrm>
            <a:off x="6877080" y="4437000"/>
            <a:ext cx="115092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14"/>
          <p:cNvSpPr/>
          <p:nvPr/>
        </p:nvSpPr>
        <p:spPr>
          <a:xfrm>
            <a:off x="6732720" y="5156280"/>
            <a:ext cx="151272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15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5435640" y="907920"/>
            <a:ext cx="1883880" cy="1942560"/>
            <a:chOff x="5435640" y="907920"/>
            <a:chExt cx="1883880" cy="1942560"/>
          </a:xfrm>
        </p:grpSpPr>
        <p:sp>
          <p:nvSpPr>
            <p:cNvPr id="493" name="Line 17"/>
            <p:cNvSpPr/>
            <p:nvPr/>
          </p:nvSpPr>
          <p:spPr>
            <a:xfrm flipV="1">
              <a:off x="5435640" y="1481400"/>
              <a:ext cx="1080000" cy="13690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5651280" y="907920"/>
              <a:ext cx="1668240" cy="45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or ej. tej. nervios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Oval 19"/>
          <p:cNvSpPr/>
          <p:nvPr/>
        </p:nvSpPr>
        <p:spPr>
          <a:xfrm>
            <a:off x="2771640" y="5084640"/>
            <a:ext cx="151308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0"/>
          <p:cNvSpPr/>
          <p:nvPr/>
        </p:nvSpPr>
        <p:spPr>
          <a:xfrm>
            <a:off x="6592320" y="41115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s-E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21"/>
          <p:cNvGrpSpPr/>
          <p:nvPr/>
        </p:nvGrpSpPr>
        <p:grpSpPr>
          <a:xfrm>
            <a:off x="7451640" y="4722840"/>
            <a:ext cx="533160" cy="531360"/>
            <a:chOff x="7451640" y="4722840"/>
            <a:chExt cx="533160" cy="531360"/>
          </a:xfrm>
        </p:grpSpPr>
        <p:sp>
          <p:nvSpPr>
            <p:cNvPr id="498" name="Text Box 22"/>
            <p:cNvSpPr/>
            <p:nvPr/>
          </p:nvSpPr>
          <p:spPr>
            <a:xfrm>
              <a:off x="7523640" y="4757400"/>
              <a:ext cx="46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E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23"/>
            <p:cNvSpPr/>
            <p:nvPr/>
          </p:nvSpPr>
          <p:spPr>
            <a:xfrm>
              <a:off x="7451640" y="4827240"/>
              <a:ext cx="488880" cy="317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 flipV="1">
              <a:off x="7549200" y="4722840"/>
              <a:ext cx="293760" cy="531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Oval 26"/>
          <p:cNvSpPr/>
          <p:nvPr/>
        </p:nvSpPr>
        <p:spPr>
          <a:xfrm>
            <a:off x="6372360" y="4365720"/>
            <a:ext cx="431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1271520" y="26028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ansportadores de Glucosa (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uniporters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788000" y="907920"/>
          <a:ext cx="3913200" cy="5686560"/>
        </p:xfrm>
        <a:graphic>
          <a:graphicData uri="http://schemas.openxmlformats.org/drawingml/2006/table">
            <a:tbl>
              <a:tblPr/>
              <a:tblGrid>
                <a:gridCol w="1584360"/>
                <a:gridCol w="2328840"/>
              </a:tblGrid>
              <a:tr h="673200">
                <a:tc>
                  <a:txBody>
                    <a:bodyPr lIns="36000" rIns="36000" tIns="500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todos los tejidos del feto. En adultos: en GR, fibroblastos y células endotel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membrana basolateral del epitelio intestinal, túbulos renales, hepatocitos y células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ncreát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Pal. Transportador en cerebro y nervios periféric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ej. Adiposo y músculo esquelético y cardiaco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sensible a Insul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 de Fru en enterocit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mbranas del 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4" name="Group 54"/>
          <p:cNvGrpSpPr/>
          <p:nvPr/>
        </p:nvGrpSpPr>
        <p:grpSpPr>
          <a:xfrm>
            <a:off x="501480" y="836640"/>
            <a:ext cx="3927240" cy="5830920"/>
            <a:chOff x="501480" y="836640"/>
            <a:chExt cx="3927240" cy="5830920"/>
          </a:xfrm>
        </p:grpSpPr>
        <p:pic>
          <p:nvPicPr>
            <p:cNvPr id="505" name="Picture 55" descr=""/>
            <p:cNvPicPr/>
            <p:nvPr/>
          </p:nvPicPr>
          <p:blipFill>
            <a:blip r:embed="rId1"/>
            <a:stretch/>
          </p:blipFill>
          <p:spPr>
            <a:xfrm>
              <a:off x="539280" y="836640"/>
              <a:ext cx="388944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6"/>
            <p:cNvSpPr/>
            <p:nvPr/>
          </p:nvSpPr>
          <p:spPr>
            <a:xfrm>
              <a:off x="501480" y="5591160"/>
              <a:ext cx="1548720" cy="1006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1- La Glu se une a un sitio del transportador abiert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57"/>
            <p:cNvSpPr/>
            <p:nvPr/>
          </p:nvSpPr>
          <p:spPr>
            <a:xfrm>
              <a:off x="539280" y="2923560"/>
              <a:ext cx="1294920" cy="1299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2- La proteína transportadora cambia su conformació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8"/>
            <p:cNvSpPr/>
            <p:nvPr/>
          </p:nvSpPr>
          <p:spPr>
            <a:xfrm>
              <a:off x="537840" y="836640"/>
              <a:ext cx="2088000" cy="111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3- La  Glu es liberada al interior celular y la proteína transportadora retorna a su conformación original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583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rcRect l="0" t="19762" r="41287" b="-1248"/>
          <a:stretch/>
        </p:blipFill>
        <p:spPr>
          <a:xfrm>
            <a:off x="1763640" y="1628640"/>
            <a:ext cx="2664000" cy="475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rcRect l="19036" t="44449" r="0" b="13554"/>
          <a:stretch/>
        </p:blipFill>
        <p:spPr>
          <a:xfrm>
            <a:off x="2627280" y="3068640"/>
            <a:ext cx="367344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rcRect l="33346" t="80273" r="1610" b="0"/>
          <a:stretch/>
        </p:blipFill>
        <p:spPr>
          <a:xfrm>
            <a:off x="3274920" y="5157720"/>
            <a:ext cx="2951280" cy="1150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5"/>
          <a:srcRect l="42864" t="0" r="9518" b="55526"/>
          <a:stretch/>
        </p:blipFill>
        <p:spPr>
          <a:xfrm>
            <a:off x="3708360" y="476280"/>
            <a:ext cx="2160720" cy="2593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 rot="16200000">
            <a:off x="-1900080" y="3131640"/>
            <a:ext cx="5832360" cy="52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ETABOLISMO INTERM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496200" y="4316400"/>
            <a:ext cx="239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Conjunto de reacciones químicas que tienen lugar en las células y tej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535400" y="45072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q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difieren estos transportador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1114560" y="11253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 En la afinidad por la GL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055960" y="16765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GLUT4&gt; GLUT3&gt; GLUT1&gt; GLUT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539640" y="254808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- La alta afinidad por Glu de GLUT4 y GLUT3 asegura la provisión de Glu a corazón y tej. nervi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- Cuando los niveles de Glu en sangre aumentan (periodo postprandial) se activa la incorporación de Glu al hígado, por un lado, y a las células beta del páncreas, a través de los GLUT2 y se estimula la liberación de Insuli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- Esta, a su vez, promueve la movilización de los GLUT4 desde las vesículas intracelulares del tej. adiposo y músculo esquelético hacia la membrana plasmática para incorporar Glu a estos tej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" descr=""/>
          <p:cNvPicPr/>
          <p:nvPr/>
        </p:nvPicPr>
        <p:blipFill>
          <a:blip r:embed="rId1"/>
          <a:srcRect l="0" t="9572" r="0" b="0"/>
          <a:stretch/>
        </p:blipFill>
        <p:spPr>
          <a:xfrm>
            <a:off x="826920" y="1341360"/>
            <a:ext cx="7201080" cy="37036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2"/>
          <p:cNvSpPr/>
          <p:nvPr/>
        </p:nvSpPr>
        <p:spPr>
          <a:xfrm>
            <a:off x="928800" y="5238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o funcionan lo transportadores GLUT4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1"/>
          <p:cNvGraphicFramePr/>
          <p:nvPr/>
        </p:nvGraphicFramePr>
        <p:xfrm>
          <a:off x="2714760" y="2708280"/>
          <a:ext cx="357192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2708280"/>
                    <a:ext cx="35719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Text Box 2"/>
          <p:cNvSpPr/>
          <p:nvPr/>
        </p:nvSpPr>
        <p:spPr>
          <a:xfrm>
            <a:off x="6862680" y="2205000"/>
            <a:ext cx="172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3"/>
          <p:cNvSpPr/>
          <p:nvPr/>
        </p:nvSpPr>
        <p:spPr>
          <a:xfrm flipH="1">
            <a:off x="5146560" y="2347920"/>
            <a:ext cx="1658880" cy="431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3"/>
          <a:stretch/>
        </p:blipFill>
        <p:spPr>
          <a:xfrm>
            <a:off x="174600" y="2644920"/>
            <a:ext cx="2381400" cy="21524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2352600" y="2080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osforilación de la gl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879480" y="836640"/>
            <a:ext cx="76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La fosforilación es el paso inicial de todas las vías de utilización de monosacáridos, en animales y vegeta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Impide la difusión de la Glu hacia el exterior celular y asegura su utilización en alguna de las vías metabólicas celulares según el requerimiento celul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054080" y="52228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exoquina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2771640" y="4581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987640" y="467352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Isoenzimas I, II,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2916360" y="551016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Isoenzima I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o Glucoquin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5076720" y="450864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5137200" y="4506840"/>
            <a:ext cx="378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n distintas proporciones según el tejid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Son inespecific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Km Glu = 0.01-0.1 m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4992840" y="5435640"/>
            <a:ext cx="35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n hígado y células beta del páncre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 muy especifica, solo D-Gluco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Km Glu = &gt;10 mM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14"/>
          <p:cNvSpPr/>
          <p:nvPr/>
        </p:nvSpPr>
        <p:spPr>
          <a:xfrm>
            <a:off x="4932360" y="544500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009520" y="33336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755640" y="981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1- Obtener energía y poder reductor a partir de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2- Degradar los compuestos ingresados, o los de reserva,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á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s simples, utilizables como precursores para la síntesis de moléculas constituyentes de órganos y tejidos y otras sustancias necesarias para su funciona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2374920" y="2782800"/>
            <a:ext cx="5937480" cy="1797120"/>
            <a:chOff x="2374920" y="2782800"/>
            <a:chExt cx="5937480" cy="1797120"/>
          </a:xfrm>
        </p:grpSpPr>
        <p:sp>
          <p:nvSpPr>
            <p:cNvPr id="80" name="Text Box 4"/>
            <p:cNvSpPr/>
            <p:nvPr/>
          </p:nvSpPr>
          <p:spPr>
            <a:xfrm>
              <a:off x="4211640" y="339660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Text Box 5"/>
            <p:cNvSpPr/>
            <p:nvPr/>
          </p:nvSpPr>
          <p:spPr>
            <a:xfrm rot="16200000">
              <a:off x="1832400" y="349596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</a:rPr>
                <a:t>Autótrof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6"/>
            <p:cNvSpPr/>
            <p:nvPr/>
          </p:nvSpPr>
          <p:spPr>
            <a:xfrm>
              <a:off x="5724360" y="2997000"/>
              <a:ext cx="216000" cy="12225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2560"/>
                <a:gd name="textAreaBottom" fmla="*/ 1190880 h 12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5862600" y="2958840"/>
              <a:ext cx="2449800" cy="12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ones de nitr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lementos Miner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" name="Picture 8" descr=""/>
            <p:cNvPicPr/>
            <p:nvPr/>
          </p:nvPicPr>
          <p:blipFill>
            <a:blip r:embed="rId1"/>
            <a:srcRect l="68632" t="17596" r="2215" b="5712"/>
            <a:stretch/>
          </p:blipFill>
          <p:spPr>
            <a:xfrm>
              <a:off x="3130560" y="2782800"/>
              <a:ext cx="93672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9"/>
          <p:cNvGrpSpPr/>
          <p:nvPr/>
        </p:nvGrpSpPr>
        <p:grpSpPr>
          <a:xfrm>
            <a:off x="684360" y="4743000"/>
            <a:ext cx="7483680" cy="1710720"/>
            <a:chOff x="684360" y="4743000"/>
            <a:chExt cx="7483680" cy="1710720"/>
          </a:xfrm>
        </p:grpSpPr>
        <p:sp>
          <p:nvSpPr>
            <p:cNvPr id="86" name="Text Box 10"/>
            <p:cNvSpPr/>
            <p:nvPr/>
          </p:nvSpPr>
          <p:spPr>
            <a:xfrm rot="16200000">
              <a:off x="28440" y="539892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4643280" y="544428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>
              <a:off x="6227640" y="5013000"/>
              <a:ext cx="144720" cy="13669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6920"/>
                <a:gd name="textAreaBottom" fmla="*/ 13312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13"/>
            <p:cNvSpPr/>
            <p:nvPr/>
          </p:nvSpPr>
          <p:spPr>
            <a:xfrm>
              <a:off x="6416280" y="494136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" name="Picture 14" descr=""/>
            <p:cNvPicPr/>
            <p:nvPr/>
          </p:nvPicPr>
          <p:blipFill>
            <a:blip r:embed="rId2"/>
            <a:stretch/>
          </p:blipFill>
          <p:spPr>
            <a:xfrm>
              <a:off x="1116000" y="5013000"/>
              <a:ext cx="16556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5" descr=""/>
            <p:cNvPicPr/>
            <p:nvPr/>
          </p:nvPicPr>
          <p:blipFill>
            <a:blip r:embed="rId3"/>
            <a:stretch/>
          </p:blipFill>
          <p:spPr>
            <a:xfrm>
              <a:off x="2843280" y="5013000"/>
              <a:ext cx="1800000" cy="1222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969840" y="37944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Nutrición y Metabolismo en Animales Heterótrof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539640" y="13208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99"/>
                </a:solidFill>
                <a:latin typeface="Arial"/>
              </a:rPr>
              <a:t>Digestión.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(ej. masticación) y químico (ej. enzimático) de los alimentos, en moléculas absorbi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99"/>
                </a:solidFill>
                <a:latin typeface="Arial"/>
              </a:rPr>
              <a:t>Absorción de nutrientes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Metabolización.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2455920" y="37944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igestivo en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340000" y="1079640"/>
            <a:ext cx="485928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000480" y="673200"/>
            <a:ext cx="193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íp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tam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157800" y="685800"/>
            <a:ext cx="1742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151160" y="5726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0066"/>
                </a:solidFill>
                <a:latin typeface="Arial"/>
              </a:rPr>
              <a:t>- Galac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96360" y="2781360"/>
            <a:ext cx="3886200" cy="3309480"/>
            <a:chOff x="396360" y="2781360"/>
            <a:chExt cx="3886200" cy="3309480"/>
          </a:xfrm>
        </p:grpSpPr>
        <p:sp>
          <p:nvSpPr>
            <p:cNvPr id="100" name="Text Box 5"/>
            <p:cNvSpPr/>
            <p:nvPr/>
          </p:nvSpPr>
          <p:spPr>
            <a:xfrm>
              <a:off x="396360" y="4219920"/>
              <a:ext cx="174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de la di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6"/>
            <p:cNvSpPr/>
            <p:nvPr/>
          </p:nvSpPr>
          <p:spPr>
            <a:xfrm>
              <a:off x="2121480" y="2923920"/>
              <a:ext cx="288360" cy="3166920"/>
            </a:xfrm>
            <a:custGeom>
              <a:avLst/>
              <a:gdLst>
                <a:gd name="textAreaLeft" fmla="*/ 184320 w 288360"/>
                <a:gd name="textAreaRight" fmla="*/ 288720 w 28836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08320" y="308880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8"/>
            <p:cNvSpPr/>
            <p:nvPr/>
          </p:nvSpPr>
          <p:spPr>
            <a:xfrm>
              <a:off x="3993840" y="2781360"/>
              <a:ext cx="144360" cy="9342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4200"/>
                <a:gd name="textAreaBottom" fmla="*/ 910080 h 93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2331000" y="421380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isacár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10"/>
            <p:cNvSpPr/>
            <p:nvPr/>
          </p:nvSpPr>
          <p:spPr>
            <a:xfrm>
              <a:off x="3920760" y="3933000"/>
              <a:ext cx="144360" cy="9345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4560"/>
                <a:gd name="textAreaBottom" fmla="*/ 91044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2338560" y="536580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2"/>
            <p:cNvSpPr/>
            <p:nvPr/>
          </p:nvSpPr>
          <p:spPr>
            <a:xfrm>
              <a:off x="4138560" y="5085000"/>
              <a:ext cx="144000" cy="934200"/>
            </a:xfrm>
            <a:custGeom>
              <a:avLst/>
              <a:gdLst>
                <a:gd name="textAreaLeft" fmla="*/ 92160 w 144000"/>
                <a:gd name="textAreaRight" fmla="*/ 144360 w 144000"/>
                <a:gd name="textAreaTop" fmla="*/ 24120 h 934200"/>
                <a:gd name="textAreaBottom" fmla="*/ 910080 h 93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4073040" y="2873520"/>
            <a:ext cx="5017320" cy="368280"/>
            <a:chOff x="4073040" y="2873520"/>
            <a:chExt cx="5017320" cy="368280"/>
          </a:xfrm>
        </p:grpSpPr>
        <p:sp>
          <p:nvSpPr>
            <p:cNvPr id="109" name="Text Box 14"/>
            <p:cNvSpPr/>
            <p:nvPr/>
          </p:nvSpPr>
          <p:spPr>
            <a:xfrm>
              <a:off x="4073040" y="2873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99"/>
                  </a:solidFill>
                  <a:latin typeface="Arial"/>
                </a:rPr>
                <a:t>- Almid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5146200" y="3067560"/>
              <a:ext cx="4316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5570640" y="290808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ranos, harinas, tubérculos, legumb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4017240" y="3278160"/>
            <a:ext cx="2697840" cy="368640"/>
            <a:chOff x="4017240" y="3278160"/>
            <a:chExt cx="2697840" cy="368640"/>
          </a:xfrm>
        </p:grpSpPr>
        <p:sp>
          <p:nvSpPr>
            <p:cNvPr id="113" name="Text Box 18"/>
            <p:cNvSpPr/>
            <p:nvPr/>
          </p:nvSpPr>
          <p:spPr>
            <a:xfrm>
              <a:off x="4017240" y="32781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99"/>
                  </a:solidFill>
                  <a:latin typeface="Arial"/>
                </a:rPr>
                <a:t>- 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5959800" y="3339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5434560" y="3499200"/>
              <a:ext cx="43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3997440" y="3998880"/>
            <a:ext cx="4888080" cy="368640"/>
            <a:chOff x="3997440" y="3998880"/>
            <a:chExt cx="4888080" cy="368640"/>
          </a:xfrm>
        </p:grpSpPr>
        <p:sp>
          <p:nvSpPr>
            <p:cNvPr id="117" name="Text Box 22"/>
            <p:cNvSpPr/>
            <p:nvPr/>
          </p:nvSpPr>
          <p:spPr>
            <a:xfrm>
              <a:off x="3997440" y="39988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Arial"/>
                </a:rPr>
                <a:t>- Sacar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5292720" y="4219920"/>
              <a:ext cx="43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5787720" y="4060440"/>
              <a:ext cx="30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rutas, azúcar de mesa, remolach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3995280" y="4359240"/>
            <a:ext cx="3530520" cy="368280"/>
            <a:chOff x="3995280" y="4359240"/>
            <a:chExt cx="3530520" cy="368280"/>
          </a:xfrm>
        </p:grpSpPr>
        <p:sp>
          <p:nvSpPr>
            <p:cNvPr id="121" name="Text Box 26"/>
            <p:cNvSpPr/>
            <p:nvPr/>
          </p:nvSpPr>
          <p:spPr>
            <a:xfrm>
              <a:off x="3995280" y="43592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Arial"/>
                </a:rPr>
                <a:t>-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5292000" y="4580280"/>
              <a:ext cx="43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5790600" y="4419360"/>
              <a:ext cx="173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eche y deriva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29"/>
          <p:cNvGrpSpPr/>
          <p:nvPr/>
        </p:nvGrpSpPr>
        <p:grpSpPr>
          <a:xfrm>
            <a:off x="4150800" y="5076720"/>
            <a:ext cx="4110480" cy="729360"/>
            <a:chOff x="4150800" y="5076720"/>
            <a:chExt cx="4110480" cy="729360"/>
          </a:xfrm>
        </p:grpSpPr>
        <p:sp>
          <p:nvSpPr>
            <p:cNvPr id="125" name="Text Box 30"/>
            <p:cNvSpPr/>
            <p:nvPr/>
          </p:nvSpPr>
          <p:spPr>
            <a:xfrm>
              <a:off x="4150800" y="5076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660066"/>
                  </a:solidFill>
                  <a:latin typeface="Arial"/>
                </a:rPr>
                <a:t>-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4151160" y="543780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660066"/>
                  </a:solidFill>
                  <a:latin typeface="Arial"/>
                </a:rPr>
                <a:t>- Fru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2"/>
            <p:cNvGrpSpPr/>
            <p:nvPr/>
          </p:nvGrpSpPr>
          <p:grpSpPr>
            <a:xfrm>
              <a:off x="5363280" y="5157360"/>
              <a:ext cx="429840" cy="500400"/>
              <a:chOff x="5363280" y="5157360"/>
              <a:chExt cx="429840" cy="500400"/>
            </a:xfrm>
          </p:grpSpPr>
          <p:sp>
            <p:nvSpPr>
              <p:cNvPr id="128" name="Line 33"/>
              <p:cNvSpPr/>
              <p:nvPr/>
            </p:nvSpPr>
            <p:spPr>
              <a:xfrm>
                <a:off x="5363280" y="5157360"/>
                <a:ext cx="1440" cy="50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34"/>
              <p:cNvSpPr/>
              <p:nvPr/>
            </p:nvSpPr>
            <p:spPr>
              <a:xfrm>
                <a:off x="5363280" y="5371920"/>
                <a:ext cx="4298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Text Box 35"/>
            <p:cNvSpPr/>
            <p:nvPr/>
          </p:nvSpPr>
          <p:spPr>
            <a:xfrm>
              <a:off x="5787000" y="5211360"/>
              <a:ext cx="247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rutas, miel, golosinas, et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 Box 36"/>
          <p:cNvSpPr/>
          <p:nvPr/>
        </p:nvSpPr>
        <p:spPr>
          <a:xfrm>
            <a:off x="4282920" y="1176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Nutr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7"/>
          <p:cNvSpPr/>
          <p:nvPr/>
        </p:nvSpPr>
        <p:spPr>
          <a:xfrm>
            <a:off x="5867280" y="74448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8" descr=""/>
          <p:cNvPicPr/>
          <p:nvPr/>
        </p:nvPicPr>
        <p:blipFill>
          <a:blip r:embed="rId1"/>
          <a:stretch/>
        </p:blipFill>
        <p:spPr>
          <a:xfrm>
            <a:off x="2376360" y="395280"/>
            <a:ext cx="161928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442960" y="355680"/>
            <a:ext cx="422532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lmidón y glucóg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3869640" y="3429000"/>
            <a:ext cx="4646160" cy="2160720"/>
            <a:chOff x="3869640" y="3429000"/>
            <a:chExt cx="4646160" cy="2160720"/>
          </a:xfrm>
        </p:grpSpPr>
        <p:sp>
          <p:nvSpPr>
            <p:cNvPr id="138" name="Text Box 3"/>
            <p:cNvSpPr/>
            <p:nvPr/>
          </p:nvSpPr>
          <p:spPr>
            <a:xfrm>
              <a:off x="7012080" y="3429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4284720" y="5084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9640" y="3782880"/>
              <a:ext cx="147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7093080" y="378936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020600" y="345960"/>
            <a:ext cx="6828120" cy="5902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629800" y="187200"/>
            <a:ext cx="377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olisacáridos de re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2630520" y="789120"/>
            <a:ext cx="1237320" cy="3193200"/>
            <a:chOff x="2630520" y="789120"/>
            <a:chExt cx="1237320" cy="3193200"/>
          </a:xfrm>
        </p:grpSpPr>
        <p:sp>
          <p:nvSpPr>
            <p:cNvPr id="145" name="Text Box 4"/>
            <p:cNvSpPr/>
            <p:nvPr/>
          </p:nvSpPr>
          <p:spPr>
            <a:xfrm>
              <a:off x="2630520" y="789120"/>
              <a:ext cx="990000" cy="33732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Almid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2630880" y="3645000"/>
              <a:ext cx="1236960" cy="33732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Glucóge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7"/>
          <p:cNvSpPr/>
          <p:nvPr/>
        </p:nvSpPr>
        <p:spPr>
          <a:xfrm>
            <a:off x="1485000" y="6156360"/>
            <a:ext cx="56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1822cd"/>
                </a:solidFill>
                <a:latin typeface="Arial"/>
              </a:rPr>
              <a:t>Ramificación: amilopectina, 4%; glucógeno, 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20:03Z</dcterms:created>
  <dc:creator>Soporte</dc:creator>
  <dc:description/>
  <dc:language>en-US</dc:language>
  <cp:lastModifiedBy>Your User Name</cp:lastModifiedBy>
  <dcterms:modified xsi:type="dcterms:W3CDTF">2013-08-28T23:18:07Z</dcterms:modified>
  <cp:revision>64</cp:revision>
  <dc:subject/>
  <dc:title>Diapositiva 1</dc:title>
</cp:coreProperties>
</file>